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6.png" ContentType="image/png"/>
  <Override PartName="/ppt/media/image22.png" ContentType="image/png"/>
  <Override PartName="/ppt/media/image18.jpeg" ContentType="image/jpeg"/>
  <Override PartName="/ppt/media/image17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48920" y="965160"/>
            <a:ext cx="507060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AE0E9-1231-412F-BEE3-A5F0BB373B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036800" y="4778280"/>
            <a:ext cx="569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06532-3148-47FB-9716-D7B36B906E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036800" y="4778280"/>
            <a:ext cx="569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C5B59-57AE-4FA8-BC27-2B2D1B1125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36800" y="4778280"/>
            <a:ext cx="569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model parameters for the figure ar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in: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clination: 45 de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 number density scale: 5x10^4 cm^{-3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 Lorentz factor: 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-field scale: 18 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zzle height: 4 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AC52C-B2EC-42AE-BCCB-5A5F4B7A0A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207-FB58-43AD-B0A6-02E8B31C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DB5-66C9-4ACC-8E11-6B4B05C9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7FD-AD65-46D3-A82D-E0C4CB36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1C3-D372-4613-B97E-7A4032B6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0E7-9516-4204-964D-D5C54DF7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52E-C9B5-40DD-AEDF-35E51819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F38-727A-4CF0-86CE-C798C1C9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486-33F8-4360-A56F-8500EDE6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31E-C144-46C6-BFCB-00E7B823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FB8-D7CC-4CF2-8FE5-54BF6D2F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D10-E0FD-4DE3-A5B0-311D5B8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CE4-1F7E-456B-B6F6-34E6D58B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18CA3-202B-43D5-8ADB-E5A4DCC47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576440" y="485640"/>
            <a:ext cx="6931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e Galactic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362240" y="1228680"/>
            <a:ext cx="735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vidence &amp; (some) Physics of BH'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695680" y="2057400"/>
            <a:ext cx="4689360" cy="51814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ss densit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ritical mass density of a black hole with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(4/3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1.8 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ss density of water is 1 g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So, if you fill the solar system completely with water it will turn into a black hole. Please make sure your faucets are closed when you leave your hou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Black Holes – not really blac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ss falls onto a black hole, potential energy is converted into kinetic energy. This energy is either advected into and beyond the event horizon or released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energy of a mass ele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gravitational field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ailable energy (luminosity) the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call M-dot the mass accretio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2039760" y="5208480"/>
                <a:ext cx="53992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dm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M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754360" y="3851280"/>
                <a:ext cx="20718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M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Black Holes – not really blac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istic scale of the emitting region will be a few gravitational radii, i.e. r~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GM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define here the efficiency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for energy dissipation near the black hole with, e.g.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 we will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1 and hence a 10% efficiency in converting rest mass into energ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2468520" y="2779560"/>
                <a:ext cx="5824440" cy="15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M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1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G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acc>
                      <m:accPr>
                        <m:chr m:val="˙"/>
                      </m:accPr>
                      <m:e>
                        <m:sSup>
                          <m:e>
                            <m: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Black Holes – not really blac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84120" indent="-288000">
              <a:lnSpc>
                <a:spcPct val="10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icienc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epend on the spin (a) of the black ho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55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=0 (Schwarzschild) we hav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6% and for a=1 (extreme Kerr) we hav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40%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55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for nuclear fusion we only hav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0.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lnSpc>
                <a:spcPct val="10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g/sec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10% we have Mdot = 2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lnSpc>
                <a:spcPct val="10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retion rate to obtain the Eddington luminosity is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t,E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2.2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lnSpc>
                <a:spcPct val="10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ddington accretion rate also depends type of accre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55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herical accretion: Eddington limit is strictly valid only for this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55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F (Advection Dominated Accretion Flow): Quasi-spherical accretion where energy is not radiated away, but carried into the black hol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&lt;0.1). However, the efficiency increases towards the classical case when M-&gt;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t,Ed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55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accretion: much of the radiation escapes along rotation axis. However, strong radiation can induce a disk-wind which becomes significant near the Eddington lim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lnSpc>
                <a:spcPct val="10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At least for very luminous AGN, the Eddington limit is rob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36800" y="21924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533600" y="2583000"/>
            <a:ext cx="70135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ccretion onto the SMBH some of the rest-ma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ergy is converted into radiate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778200" y="3718080"/>
            <a:ext cx="2257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M/dt) c</a:t>
            </a:r>
            <a:r>
              <a:rPr b="0" lang="en-US" sz="24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8120" y="4618080"/>
            <a:ext cx="1157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4280" y="4618080"/>
            <a:ext cx="1726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ss-ac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3935520" y="4158720"/>
            <a:ext cx="45720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 flipV="1">
            <a:off x="5076360" y="4158720"/>
            <a:ext cx="46044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23760" y="5532480"/>
            <a:ext cx="8232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slow accretion (via an accretion disk; HEA)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lls onto the black hole via (quasi-circular) orbits, turning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y into radiation through collisions with other gas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-336600" y="2560680"/>
            <a:ext cx="10287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"/>
          <p:cNvSpPr/>
          <p:nvPr/>
        </p:nvSpPr>
        <p:spPr>
          <a:xfrm>
            <a:off x="3129120" y="6064200"/>
            <a:ext cx="3693960" cy="914400"/>
          </a:xfrm>
          <a:prstGeom prst="roundRect">
            <a:avLst>
              <a:gd name="adj" fmla="val 171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936800" y="21924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52560" y="2473200"/>
            <a:ext cx="81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amount of energy available befo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 falls into the central black hole at some radius nR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09960" y="4282920"/>
            <a:ext cx="580356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ential Energy:          V  = GMm/(n R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warzschild radius:   R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2GM/c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690640" y="3660840"/>
            <a:ext cx="4699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Newtonian Approxi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557520" y="6221520"/>
            <a:ext cx="2965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 baseline="-33000">
                <a:solidFill>
                  <a:srgbClr val="000000"/>
                </a:solidFill>
                <a:latin typeface="Arial"/>
              </a:rPr>
              <a:t>r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OpenSymbol"/>
                <a:ea typeface="OpenSymbol"/>
              </a:rPr>
              <a:t>≤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1/2n) m c</a:t>
            </a:r>
            <a:r>
              <a:rPr b="0" lang="en-US" sz="2600" spc="-1" strike="noStrike" baseline="33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1936800" y="21924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219320" y="4146480"/>
            <a:ext cx="8245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 is O(few), then the efficiency can be as high a 5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particle can effectively radiate that energy a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025720" y="2970360"/>
            <a:ext cx="64324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What is n for a non-rotating Black Ho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(section 5.1.3 of Krolik)</a:t>
            </a:r>
            <a:r>
              <a:rPr b="0" lang="en-US" sz="2600" spc="-1" strike="noStrike">
                <a:solidFill>
                  <a:srgbClr val="000080"/>
                </a:solidFill>
                <a:latin typeface="Comic Sans M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960" y="5484960"/>
            <a:ext cx="94075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articles on plunging radial orbits (L=0) don't radiate efficient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but particles with L&gt;0 do, so let's conside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>
            <a:off x="385920" y="1649520"/>
            <a:ext cx="4114800" cy="5823000"/>
          </a:xfrm>
          <a:custGeom>
            <a:avLst/>
            <a:gdLst>
              <a:gd name="textAreaLeft" fmla="*/ 26640 w 4114800"/>
              <a:gd name="textAreaRight" fmla="*/ 4088160 w 4114800"/>
              <a:gd name="textAreaTop" fmla="*/ 26640 h 5823000"/>
              <a:gd name="textAreaBottom" fmla="*/ 5796360 h 5823000"/>
            </a:gdLst>
            <a:ahLst/>
            <a:rect l="textAreaLeft" t="textAreaTop" r="textAreaRight" b="textAreaBottom"/>
            <a:pathLst>
              <a:path w="21600" h="30566">
                <a:moveTo>
                  <a:pt x="483" y="0"/>
                </a:moveTo>
                <a:arcTo wR="483" hR="483" stAng="16200000" swAng="-5400000"/>
                <a:lnTo>
                  <a:pt x="0" y="30083"/>
                </a:lnTo>
                <a:arcTo wR="483" hR="483" stAng="10800000" swAng="-5400000"/>
                <a:lnTo>
                  <a:pt x="21117" y="30566"/>
                </a:lnTo>
                <a:arcTo wR="483" hR="483" stAng="5400000" swAng="-5400000"/>
                <a:lnTo>
                  <a:pt x="21600" y="483"/>
                </a:lnTo>
                <a:arcTo wR="483" hR="483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47560" y="1841400"/>
            <a:ext cx="383220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936800" y="21924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896000" y="2093760"/>
            <a:ext cx="4789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non-zero restmass p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L&gt;0: (G=c=1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4614840" y="3308400"/>
                <a:ext cx="5157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AutoShape 6"/>
          <p:cNvSpPr/>
          <p:nvPr/>
        </p:nvSpPr>
        <p:spPr>
          <a:xfrm>
            <a:off x="6567480" y="3319560"/>
            <a:ext cx="320040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051680" y="4281480"/>
            <a:ext cx="2222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ective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5524560" y="3319560"/>
            <a:ext cx="817560" cy="914400"/>
          </a:xfrm>
          <a:custGeom>
            <a:avLst/>
            <a:gdLst>
              <a:gd name="textAreaLeft" fmla="*/ 360 w 817560"/>
              <a:gd name="textAreaRight" fmla="*/ 817200 w 817560"/>
              <a:gd name="textAreaTop" fmla="*/ 360 h 914400"/>
              <a:gd name="textAreaBottom" fmla="*/ 914040 h 914400"/>
            </a:gdLst>
            <a:ahLst/>
            <a:rect l="textAreaLeft" t="textAreaTop" r="textAreaRight" b="textAreaBottom"/>
            <a:pathLst>
              <a:path w="21600" h="24157">
                <a:moveTo>
                  <a:pt x="42" y="0"/>
                </a:moveTo>
                <a:arcTo wR="42" hR="42" stAng="16200000" swAng="-5400000"/>
                <a:lnTo>
                  <a:pt x="0" y="24115"/>
                </a:lnTo>
                <a:arcTo wR="42" hR="42" stAng="10800000" swAng="-5400000"/>
                <a:lnTo>
                  <a:pt x="21558" y="24157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06880" y="4281480"/>
            <a:ext cx="19717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le (pseudo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902120" y="5135400"/>
            <a:ext cx="488340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les with L&gt;0 will move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tion disk on (quasi) circ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bits (dr/dt=0), loosing 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ular momentum and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rolik Chapt. 5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565200" y="1865160"/>
            <a:ext cx="3778200" cy="5450040"/>
          </a:xfrm>
          <a:custGeom>
            <a:avLst/>
            <a:gdLst>
              <a:gd name="textAreaLeft" fmla="*/ 360 w 3778200"/>
              <a:gd name="textAreaRight" fmla="*/ 3777840 w 3778200"/>
              <a:gd name="textAreaTop" fmla="*/ 360 h 5450040"/>
              <a:gd name="textAreaBottom" fmla="*/ 5449680 h 5450040"/>
            </a:gdLst>
            <a:ahLst/>
            <a:rect l="textAreaLeft" t="textAreaTop" r="textAreaRight" b="textAreaBottom"/>
            <a:pathLst>
              <a:path w="21600" h="31157">
                <a:moveTo>
                  <a:pt x="9" y="0"/>
                </a:moveTo>
                <a:arcTo wR="9" hR="9" stAng="16200000" swAng="-5400000"/>
                <a:lnTo>
                  <a:pt x="0" y="31148"/>
                </a:lnTo>
                <a:arcTo wR="9" hR="9" stAng="10800000" swAng="-5400000"/>
                <a:lnTo>
                  <a:pt x="21591" y="3115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noFill/>
          <a:ln w="12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936800" y="22068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706320" y="2554200"/>
            <a:ext cx="9047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the circular orbit, we need to determine the extrema of V</a:t>
            </a:r>
            <a:r>
              <a:rPr b="0" lang="en-US" sz="2200" spc="-1" strike="noStrike" baseline="-33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968480" y="3279600"/>
                <a:ext cx="570240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2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1593720" y="4643280"/>
            <a:ext cx="6980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rema are only found if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L ≥ √12 M or r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ms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≥ 6 GM/c</a:t>
            </a:r>
            <a:r>
              <a:rPr b="0" lang="en-US" sz="2200" spc="-1" strike="noStrike" baseline="33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62040" y="5630760"/>
            <a:ext cx="8827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nce the </a:t>
            </a:r>
            <a:r>
              <a:rPr b="0" lang="en-US" sz="2200" spc="-1" strike="noStrike">
                <a:solidFill>
                  <a:srgbClr val="000080"/>
                </a:solidFill>
                <a:latin typeface="Comic Sans MS"/>
              </a:rPr>
              <a:t>“innermost stable” or “marginally stable” orbi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6 times the Schwarzschild radius.  Inside that rad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 circular orbits exist and the gas/particles plunge into the BH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1936800" y="220680"/>
            <a:ext cx="6205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on-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965160" y="1974960"/>
            <a:ext cx="84376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What does this imply for the SMBH accretion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ow much energy is lost “down the road” from infinity till 6M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079720" y="3514680"/>
            <a:ext cx="59547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(a) Pseudo energy at 6 R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:      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(6M) = 4/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(energy of particle)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(b) Associated       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∞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= √[2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(6M)] = (√8)/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                                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(what is should be if no energy was lost)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(c) Binding energy: 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= 1 – E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∞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= 0.05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                                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(hence this is what was lost on the way)</a:t>
            </a: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87320" y="6016680"/>
            <a:ext cx="8504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nce 6% (η=0.06) of the particle restmass has been conve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(mostly radiative) energy through loosing angular mo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redshifting accounted fo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968400" y="2203560"/>
            <a:ext cx="84312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Theoretical arguments for SMBHs in A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tion pressure: Lower Limit on M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tion Efficiency of Accretion on B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Observational evidence for SMBH in Galaxies/AGN ho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central stellar velocity disp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amaser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l Velocities from Ionized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ad Iron (Fe) Kα lines (relativ. accetion disk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erber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r A* in the 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890640" y="228600"/>
            <a:ext cx="82976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rguments in Favour of SMBHs 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Engines of A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"/>
          <p:cNvSpPr/>
          <p:nvPr/>
        </p:nvSpPr>
        <p:spPr>
          <a:xfrm>
            <a:off x="685800" y="6172200"/>
            <a:ext cx="8915400" cy="685800"/>
          </a:xfrm>
          <a:prstGeom prst="roundRect">
            <a:avLst>
              <a:gd name="adj" fmla="val 231"/>
            </a:avLst>
          </a:prstGeom>
          <a:solidFill>
            <a:srgbClr val="b3b3b3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941480" y="220680"/>
            <a:ext cx="61992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ccretion Efficiency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otating Black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14280" y="2743200"/>
            <a:ext cx="7650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rotating black holes the situations is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icult (see Krolik), but the procedure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06400" y="4154400"/>
            <a:ext cx="8469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this case: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Comic Sans MS"/>
              </a:rPr>
              <a:t>ms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~ GM/c</a:t>
            </a:r>
            <a:r>
              <a:rPr b="0" lang="en-US" sz="2200" spc="-1" strike="noStrike" baseline="33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d η=1-1/√3 = 0.42 for a maximally rotating (Kerr) Black 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43040" y="6221520"/>
            <a:ext cx="898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nce η=0.06 - 0.42 for non- to maximally-rotating BH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nner Disk Radi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741240" y="3086280"/>
            <a:ext cx="4227480" cy="2792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12100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p line gives the radius of maximal energy diss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line gives the location of the marginally stable  radius, i.e. the inner disk rad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plotted as function of angular momentum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723960" y="3719520"/>
            <a:ext cx="899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 observational evidence for massive object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centers of (AGN host) galax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925560" y="20016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31 – Andromeda: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Stellar Kine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73200" y="2824200"/>
            <a:ext cx="40384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Velocity dispersion increases to 250 km/s toward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Radial velocities increase to 200 km/s before passing through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Kormendy (1988) derived a mass  of about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7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116680" y="2320920"/>
            <a:ext cx="4038480" cy="4525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925560" y="27144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87 (Massive Elliptical):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Gas Kine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614520" y="3147840"/>
            <a:ext cx="44575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Radial Velocity measurements using spectroscopy of emission lines of ionized g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Ford et al. conclude a mass of 2.4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</a:rPr>
              <a:t>su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within the inner 18 parsecs of the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511960" y="2247840"/>
            <a:ext cx="4038480" cy="4525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5776920" y="1973160"/>
            <a:ext cx="4233960" cy="5486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8209080" y="5734080"/>
            <a:ext cx="82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0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172360" y="3195720"/>
            <a:ext cx="8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1280" y="4581360"/>
            <a:ext cx="50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2859120"/>
            <a:ext cx="525780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O megamaser @ 22 GHz detected in NGC 4258 in a warped annulus of 0.14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−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0.28pc and less than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cm of thickness, with a beaming angle of 1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°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Comic Sans MS"/>
              </a:rPr>
              <a:t>(Miyoshi et al. 1995, Maloney 200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ombining the Doppler velocities (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±900km s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−1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) and the time to transverse the angular distance  (0.14 pc) gives the mass of the nucleus  3.9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7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su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within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≤ 0.012 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960480" y="27144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NGC 4258: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egama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960480" y="27144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NGC 4258: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egama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900520" y="1936800"/>
            <a:ext cx="4892400" cy="54864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925560" y="38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CG-6-30-15: </a:t>
            </a:r>
            <a:r>
              <a:rPr b="1" lang="es-MX" sz="4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1" lang="el-GR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α</a:t>
            </a:r>
            <a:r>
              <a:rPr b="1" lang="es-MX" sz="4000" spc="-1" strike="noStrike">
                <a:solidFill>
                  <a:srgbClr val="ff0000"/>
                </a:solidFill>
                <a:latin typeface="Comic Sans MS"/>
              </a:rPr>
              <a:t> Fe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685800" y="2716200"/>
            <a:ext cx="431316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X-ray spectroscopy in Seyferts has revealed highly broadened iron K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α lines on the order of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4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km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uture X-ray observations will give better estimate on mass of central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Greene et al. derived a mass of about 5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6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440320" y="2392200"/>
            <a:ext cx="4038480" cy="45262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685800" y="1996920"/>
            <a:ext cx="9144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rofile is skewed with an extended red wing due to gravitational redshift, and a prominent blue wing which is relativisticaly boosted due to the high orbital velocities of the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878040" y="3138480"/>
            <a:ext cx="3693960" cy="424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913280" y="5197320"/>
            <a:ext cx="4687920" cy="21621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925560" y="38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MCG-6-30-15: </a:t>
            </a:r>
            <a:r>
              <a:rPr b="1" lang="es-MX" sz="4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1" lang="el-GR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α</a:t>
            </a:r>
            <a:r>
              <a:rPr b="1" lang="es-MX" sz="4000" spc="-1" strike="noStrike">
                <a:solidFill>
                  <a:srgbClr val="ff0000"/>
                </a:solidFill>
                <a:latin typeface="Comic Sans MS"/>
              </a:rPr>
              <a:t> Fe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tretch/>
        </p:blipFill>
        <p:spPr>
          <a:xfrm>
            <a:off x="7386480" y="3173400"/>
            <a:ext cx="2194200" cy="19479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5102280" y="3849840"/>
            <a:ext cx="173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Accreti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 flipV="1">
            <a:off x="9516960" y="460656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05880" y="2313000"/>
            <a:ext cx="9027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7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BLR is photoionized, since it responds to continuum variations, with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71400" y="3103560"/>
            <a:ext cx="3996000" cy="19843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64" name="Text Box 3"/>
          <p:cNvSpPr/>
          <p:nvPr/>
        </p:nvSpPr>
        <p:spPr>
          <a:xfrm>
            <a:off x="4789440" y="2600280"/>
            <a:ext cx="478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ertain delay, which is a function of the BLR geometry, viewing angle, line emissivit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824360" y="3681360"/>
            <a:ext cx="4824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general the line response is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5897520" y="3994200"/>
                <a:ext cx="24274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Text Box 6"/>
          <p:cNvSpPr/>
          <p:nvPr/>
        </p:nvSpPr>
        <p:spPr>
          <a:xfrm>
            <a:off x="4824360" y="4365720"/>
            <a:ext cx="4824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called transfer function. The centroid of 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 cross-correlation func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etween the continuum and the line 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gives the mean radius of e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6111720" y="5780160"/>
                <a:ext cx="3305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C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Text Box 8"/>
          <p:cNvSpPr/>
          <p:nvPr/>
        </p:nvSpPr>
        <p:spPr>
          <a:xfrm>
            <a:off x="4824360" y="6200640"/>
            <a:ext cx="4824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where ACF is the autocorrelation function of the continu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844640" y="217440"/>
            <a:ext cx="638964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verberation Mapp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MBH Mass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911160" y="5256360"/>
            <a:ext cx="33116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e.g., for a thin spherical shell, the BLR would respond at a delay time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iven by the parabolid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1182600" y="6423120"/>
                <a:ext cx="23353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861840" y="577800"/>
            <a:ext cx="8356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adiation Pressure: BH mass li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338120" y="2227320"/>
            <a:ext cx="78361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ong-term) stability of the AGN gas require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aviational force exceeds or equals the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ure from the A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299120" y="3875040"/>
            <a:ext cx="1482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gra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gt; F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Comic Sans MS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5611680" y="4923000"/>
                <a:ext cx="33274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5540400" y="6046920"/>
                <a:ext cx="38577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/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" name="Text Box 6"/>
          <p:cNvSpPr/>
          <p:nvPr/>
        </p:nvSpPr>
        <p:spPr>
          <a:xfrm>
            <a:off x="1225440" y="5091120"/>
            <a:ext cx="3780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Radiation For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an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212840" y="6027840"/>
            <a:ext cx="3871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Gravitational For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us proton pair (medium m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neutral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865080" y="4836960"/>
            <a:ext cx="8686800" cy="2514600"/>
          </a:xfrm>
          <a:prstGeom prst="roundRect">
            <a:avLst>
              <a:gd name="adj" fmla="val 2144"/>
            </a:avLst>
          </a:prstGeom>
          <a:noFill/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576360" y="1989000"/>
            <a:ext cx="4233600" cy="54864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708120" y="7170840"/>
            <a:ext cx="4060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(Peterson 2001, data from Clavel et al. 1992, Peterson et al. 1992)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506840" y="4673520"/>
            <a:ext cx="166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851280" y="249696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851280" y="308916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851280" y="369396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851280" y="428616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851280" y="487512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851280" y="546588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851280" y="6056280"/>
            <a:ext cx="65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3465360" y="4414680"/>
            <a:ext cx="1800" cy="2286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1846440" y="217440"/>
            <a:ext cx="638964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verberation Mapp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MBH Mass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910040" y="3060720"/>
            <a:ext cx="51483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f the kinematics of the BLR are Keplerian, we can apply the virial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4"/>
              <p:cNvSpPr txBox="1"/>
              <p:nvPr/>
            </p:nvSpPr>
            <p:spPr>
              <a:xfrm>
                <a:off x="6540480" y="3994200"/>
                <a:ext cx="15145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/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Text Box 15"/>
          <p:cNvSpPr/>
          <p:nvPr/>
        </p:nvSpPr>
        <p:spPr>
          <a:xfrm>
            <a:off x="5051520" y="5099040"/>
            <a:ext cx="4849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th f, a factor close to 1. Measuring the line widths (FWHM) of the emission lines, we have an estimate of the velocity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ispersion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σ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6640" y="2116080"/>
            <a:ext cx="880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56080" y="2227320"/>
            <a:ext cx="2644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Measure time-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 flipH="1">
            <a:off x="4835160" y="251460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4573440" y="4287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"/>
              <p:cNvSpPr txBox="1"/>
              <p:nvPr/>
            </p:nvSpPr>
            <p:spPr>
              <a:xfrm>
                <a:off x="936720" y="2422440"/>
                <a:ext cx="56037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/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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cτ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y</m:t>
                            </m:r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m s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709560" y="3429000"/>
            <a:ext cx="3106800" cy="40053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94" name="Text Box 4"/>
          <p:cNvSpPr/>
          <p:nvPr/>
        </p:nvSpPr>
        <p:spPr>
          <a:xfrm>
            <a:off x="6475320" y="2637000"/>
            <a:ext cx="1918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Wandel, Peterson,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amp; Malkan 1999)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07400" y="7108920"/>
            <a:ext cx="16682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(Peterson &amp; Wandel 2000)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5254560" y="4851360"/>
                <a:ext cx="3062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WH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c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Line 7"/>
          <p:cNvSpPr/>
          <p:nvPr/>
        </p:nvSpPr>
        <p:spPr>
          <a:xfrm flipH="1">
            <a:off x="2556000" y="3862440"/>
            <a:ext cx="218880" cy="2160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700360" y="3668760"/>
            <a:ext cx="1081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600" spc="-1" strike="noStrike">
                <a:solidFill>
                  <a:srgbClr val="990099"/>
                </a:solidFill>
                <a:latin typeface="Arial"/>
              </a:rPr>
              <a:t>b=</a:t>
            </a:r>
            <a:r>
              <a:rPr b="0" lang="es-MX" sz="1600" spc="-1" strike="noStrike">
                <a:solidFill>
                  <a:srgbClr val="990099"/>
                </a:solidFill>
                <a:latin typeface="Arial"/>
                <a:ea typeface="Arial"/>
              </a:rPr>
              <a:t>−</a:t>
            </a:r>
            <a:r>
              <a:rPr b="0" lang="es-MX" sz="1600" spc="-1" strike="noStrike">
                <a:solidFill>
                  <a:srgbClr val="990099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008960" y="5735520"/>
            <a:ext cx="58240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sses derived by this method rang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 =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Comic Sans MS"/>
              </a:rPr>
              <a:t>su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Sy 1s (i.e., in the rang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NER NGC 4258) to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=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Comic Sans MS"/>
              </a:rPr>
              <a:t>su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Q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356000" y="3753000"/>
            <a:ext cx="54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7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fferent lines give you the same answer, even if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L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measured is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3232440" y="288936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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846440" y="219240"/>
            <a:ext cx="63896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verberation Mapp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MBH Mass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585880" y="1986120"/>
            <a:ext cx="5016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</a:rPr>
              <a:t>The central mass is then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4"/>
          <p:cNvSpPr/>
          <p:nvPr/>
        </p:nvSpPr>
        <p:spPr>
          <a:xfrm>
            <a:off x="611280" y="2422440"/>
            <a:ext cx="8483400" cy="1000080"/>
          </a:xfrm>
          <a:prstGeom prst="roundRect">
            <a:avLst>
              <a:gd name="adj" fmla="val 11597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2506680" y="3790800"/>
            <a:ext cx="50655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Galactic Cen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925560" y="3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Sagittarius A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20840" y="2009880"/>
            <a:ext cx="45720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n unresolved bright continuum at radio waveleng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Essentially at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Upper limit on size from radio measurements on order of 3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Several Stars in orbital motion around Sgr A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particular S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educe an enclosed mass of 3.7 x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Other c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X-ray fla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Tidal disruption of st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5173560" y="2209680"/>
            <a:ext cx="4645080" cy="4876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925560" y="3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Sagittarius A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807080" y="2128680"/>
            <a:ext cx="4724280" cy="47134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5722920" y="6916680"/>
            <a:ext cx="3192480" cy="4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drea Ghez et al. (2003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8240" y="2303640"/>
            <a:ext cx="357372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verlay of Stellar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bits on Image of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” at 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nature01121-f3-genzel-enclosed-mass"/>
          <p:cNvPicPr/>
          <p:nvPr/>
        </p:nvPicPr>
        <p:blipFill>
          <a:blip r:embed="rId1"/>
          <a:stretch/>
        </p:blipFill>
        <p:spPr>
          <a:xfrm>
            <a:off x="2325600" y="2101680"/>
            <a:ext cx="6308640" cy="54579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"/>
          <p:cNvSpPr/>
          <p:nvPr/>
        </p:nvSpPr>
        <p:spPr>
          <a:xfrm>
            <a:off x="968400" y="106524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mic Sans MS"/>
              </a:rPr>
              <a:t>Limit on Enclosed Mass at the 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553120" y="7191360"/>
            <a:ext cx="24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oedel et al. (2003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25560" y="3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Sagitarius A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onstraining Sgr A* Parameters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from its radio spectrum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8" name="Picture 13" descr="sgrspec"/>
          <p:cNvPicPr/>
          <p:nvPr/>
        </p:nvPicPr>
        <p:blipFill>
          <a:blip r:embed="rId1"/>
          <a:stretch/>
        </p:blipFill>
        <p:spPr>
          <a:xfrm>
            <a:off x="998640" y="2268360"/>
            <a:ext cx="8248680" cy="503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4"/>
          <p:cNvSpPr/>
          <p:nvPr/>
        </p:nvSpPr>
        <p:spPr>
          <a:xfrm>
            <a:off x="5973840" y="7207200"/>
            <a:ext cx="4095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lia &amp; Falcke (2001), Ann. Rev. A&amp;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843200" y="1919160"/>
            <a:ext cx="761184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gr A*: Radio-submm-NIR Spectr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2"/>
          <p:cNvSpPr/>
          <p:nvPr/>
        </p:nvSpPr>
        <p:spPr>
          <a:xfrm>
            <a:off x="4589640" y="3116160"/>
            <a:ext cx="4070160" cy="260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4865760" y="4599000"/>
            <a:ext cx="255420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absorbed synchrotro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~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706320" y="7253280"/>
            <a:ext cx="2697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lcke (199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2"/>
          <p:cNvSpPr/>
          <p:nvPr/>
        </p:nvSpPr>
        <p:spPr>
          <a:xfrm>
            <a:off x="3781440" y="3508200"/>
            <a:ext cx="4070160" cy="260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2"/>
          <p:cNvSpPr/>
          <p:nvPr/>
        </p:nvSpPr>
        <p:spPr>
          <a:xfrm>
            <a:off x="2948040" y="3828960"/>
            <a:ext cx="4071960" cy="260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2"/>
          <p:cNvSpPr/>
          <p:nvPr/>
        </p:nvSpPr>
        <p:spPr>
          <a:xfrm>
            <a:off x="2100240" y="4116240"/>
            <a:ext cx="4070520" cy="260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223920" y="5205240"/>
                <a:ext cx="4051080" cy="20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s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ν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s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ν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s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ν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1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s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1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ν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8" name="Group 17"/>
          <p:cNvGrpSpPr/>
          <p:nvPr/>
        </p:nvGrpSpPr>
        <p:grpSpPr>
          <a:xfrm>
            <a:off x="2741400" y="2735280"/>
            <a:ext cx="1803600" cy="706320"/>
            <a:chOff x="2741400" y="2735280"/>
            <a:chExt cx="1803600" cy="706320"/>
          </a:xfrm>
        </p:grpSpPr>
        <p:sp>
          <p:nvSpPr>
            <p:cNvPr id="229" name="Rectangle 41"/>
            <p:cNvSpPr/>
            <p:nvPr/>
          </p:nvSpPr>
          <p:spPr>
            <a:xfrm>
              <a:off x="2781360" y="2742120"/>
              <a:ext cx="1763640" cy="6994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44"/>
            <p:cNvSpPr/>
            <p:nvPr/>
          </p:nvSpPr>
          <p:spPr>
            <a:xfrm flipH="1">
              <a:off x="2780640" y="3123360"/>
              <a:ext cx="1763640" cy="318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5"/>
            <p:cNvSpPr/>
            <p:nvPr/>
          </p:nvSpPr>
          <p:spPr>
            <a:xfrm flipH="1" flipV="1">
              <a:off x="2741040" y="2735280"/>
              <a:ext cx="1803240" cy="318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Freeform 22"/>
          <p:cNvSpPr/>
          <p:nvPr/>
        </p:nvSpPr>
        <p:spPr>
          <a:xfrm>
            <a:off x="4608360" y="3252960"/>
            <a:ext cx="2479680" cy="2474640"/>
          </a:xfrm>
          <a:prstGeom prst="pie">
            <a:avLst/>
          </a:prstGeom>
          <a:noFill/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24"/>
          <p:cNvSpPr/>
          <p:nvPr/>
        </p:nvSpPr>
        <p:spPr>
          <a:xfrm>
            <a:off x="6496200" y="4079880"/>
            <a:ext cx="1968480" cy="1903320"/>
          </a:xfrm>
          <a:prstGeom prst="line">
            <a:avLst/>
          </a:prstGeom>
          <a:ln w="936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25"/>
          <p:cNvSpPr/>
          <p:nvPr/>
        </p:nvSpPr>
        <p:spPr>
          <a:xfrm>
            <a:off x="6761160" y="4808520"/>
            <a:ext cx="1967040" cy="1903320"/>
          </a:xfrm>
          <a:prstGeom prst="line">
            <a:avLst/>
          </a:prstGeom>
          <a:ln w="936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6303960" y="2816280"/>
            <a:ext cx="2305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c000"/>
                </a:solidFill>
                <a:latin typeface="Arial"/>
              </a:rPr>
              <a:t>NIR </a:t>
            </a:r>
            <a:r>
              <a:rPr b="0" lang="nl-NL" sz="1800" spc="-1" strike="noStrike">
                <a:solidFill>
                  <a:srgbClr val="ffc000"/>
                </a:solidFill>
                <a:latin typeface="SymbolProp BT"/>
                <a:ea typeface="SymbolProp BT"/>
              </a:rPr>
              <a:t></a:t>
            </a:r>
            <a:r>
              <a:rPr b="0" lang="nl-NL" sz="1800" spc="-1" strike="noStrike">
                <a:solidFill>
                  <a:srgbClr val="ffc000"/>
                </a:solidFill>
                <a:latin typeface="Arial"/>
              </a:rPr>
              <a:t> N</a:t>
            </a:r>
            <a:r>
              <a:rPr b="0" lang="nl-NL" sz="1800" spc="-1" strike="noStrike" baseline="-25000">
                <a:solidFill>
                  <a:srgbClr val="ffc000"/>
                </a:solidFill>
                <a:latin typeface="Arial"/>
              </a:rPr>
              <a:t>e,rel</a:t>
            </a:r>
            <a:r>
              <a:rPr b="0" lang="nl-NL" sz="1800" spc="-1" strike="noStrike">
                <a:solidFill>
                  <a:srgbClr val="ffc000"/>
                </a:solidFill>
                <a:latin typeface="Arial"/>
              </a:rPr>
              <a:t>/N</a:t>
            </a:r>
            <a:r>
              <a:rPr b="0" lang="nl-NL" sz="1800" spc="-1" strike="noStrike" baseline="-25000">
                <a:solidFill>
                  <a:srgbClr val="ffc000"/>
                </a:solidFill>
                <a:latin typeface="Arial"/>
              </a:rPr>
              <a:t>e,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4376880" y="2503440"/>
            <a:ext cx="2303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c000"/>
                </a:solidFill>
                <a:latin typeface="Arial"/>
              </a:rPr>
              <a:t>Submm </a:t>
            </a:r>
            <a:r>
              <a:rPr b="0" lang="nl-NL" sz="1800" spc="-1" strike="noStrike">
                <a:solidFill>
                  <a:srgbClr val="ffc000"/>
                </a:solidFill>
                <a:latin typeface="SymbolProp BT"/>
                <a:ea typeface="SymbolProp BT"/>
              </a:rPr>
              <a:t></a:t>
            </a:r>
            <a:r>
              <a:rPr b="0" lang="nl-NL" sz="1800" spc="-1" strike="noStrike">
                <a:solidFill>
                  <a:srgbClr val="ffc000"/>
                </a:solidFill>
                <a:latin typeface="Arial"/>
              </a:rPr>
              <a:t> M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ize of Sgr A*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449360" y="2101680"/>
            <a:ext cx="7191360" cy="4761000"/>
          </a:xfrm>
          <a:prstGeom prst="rect">
            <a:avLst/>
          </a:prstGeom>
          <a:ln w="0">
            <a:noFill/>
          </a:ln>
        </p:spPr>
      </p:pic>
      <p:sp>
        <p:nvSpPr>
          <p:cNvPr id="239" name="Straight Connector 5"/>
          <p:cNvSpPr/>
          <p:nvPr/>
        </p:nvSpPr>
        <p:spPr>
          <a:xfrm>
            <a:off x="2754360" y="4994280"/>
            <a:ext cx="5715000" cy="144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6397560" y="4645080"/>
            <a:ext cx="18576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 R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968400" y="6994440"/>
            <a:ext cx="8929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cke, Markoff, Bower (2008)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ata from Doeleman et al. 2008, Shen et al. 2006, Bower et al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Shadow of a Black Hole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t’s getting bigger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912680" y="2099880"/>
            <a:ext cx="1174680" cy="356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512600" y="2070720"/>
            <a:ext cx="1561680" cy="356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6mm 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305120" y="1998360"/>
            <a:ext cx="1561680" cy="356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mm 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320" y="2760480"/>
            <a:ext cx="1113840" cy="898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=0.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=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41400" y="5420520"/>
            <a:ext cx="1042200" cy="898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=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=con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695560" y="7229880"/>
            <a:ext cx="3328200" cy="356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alcke, Melia, Agol 2000, ApJ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figure1"/>
          <p:cNvPicPr/>
          <p:nvPr/>
        </p:nvPicPr>
        <p:blipFill>
          <a:blip r:embed="rId1"/>
          <a:stretch/>
        </p:blipFill>
        <p:spPr>
          <a:xfrm>
            <a:off x="1344600" y="2425680"/>
            <a:ext cx="7846920" cy="4788000"/>
          </a:xfrm>
          <a:prstGeom prst="rect">
            <a:avLst/>
          </a:prstGeom>
          <a:ln w="0">
            <a:noFill/>
          </a:ln>
        </p:spPr>
      </p:pic>
      <p:sp>
        <p:nvSpPr>
          <p:cNvPr id="250" name="Line 10"/>
          <p:cNvSpPr/>
          <p:nvPr/>
        </p:nvSpPr>
        <p:spPr>
          <a:xfrm>
            <a:off x="2602080" y="3465360"/>
            <a:ext cx="9360" cy="394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2917800" y="3438360"/>
            <a:ext cx="7920" cy="394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1536840" y="7121520"/>
            <a:ext cx="2447640" cy="3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9-58 µ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189160" y="2189160"/>
            <a:ext cx="2332080" cy="2346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494320" y="4613400"/>
            <a:ext cx="2330640" cy="2346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5462640" y="2179800"/>
            <a:ext cx="2330280" cy="23479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181240" y="4597560"/>
            <a:ext cx="2330280" cy="2346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run7"/>
          <p:cNvPicPr/>
          <p:nvPr/>
        </p:nvPicPr>
        <p:blipFill>
          <a:blip r:embed="rId1"/>
          <a:stretch/>
        </p:blipFill>
        <p:spPr>
          <a:xfrm>
            <a:off x="2184480" y="2184480"/>
            <a:ext cx="2338200" cy="23511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Varying the Model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9" name="Picture 8" descr="run7"/>
          <p:cNvPicPr/>
          <p:nvPr/>
        </p:nvPicPr>
        <p:blipFill>
          <a:blip r:embed="rId2"/>
          <a:stretch/>
        </p:blipFill>
        <p:spPr>
          <a:xfrm>
            <a:off x="2184480" y="4619520"/>
            <a:ext cx="2340000" cy="2352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run8"/>
          <p:cNvPicPr/>
          <p:nvPr/>
        </p:nvPicPr>
        <p:blipFill>
          <a:blip r:embed="rId3"/>
          <a:stretch/>
        </p:blipFill>
        <p:spPr>
          <a:xfrm>
            <a:off x="5460840" y="2184480"/>
            <a:ext cx="2341800" cy="2334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run8"/>
          <p:cNvPicPr/>
          <p:nvPr/>
        </p:nvPicPr>
        <p:blipFill>
          <a:blip r:embed="rId4"/>
          <a:stretch/>
        </p:blipFill>
        <p:spPr>
          <a:xfrm>
            <a:off x="5460840" y="4619520"/>
            <a:ext cx="2360880" cy="23608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503280" y="2519280"/>
            <a:ext cx="14288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fall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=0.998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=90º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=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503280" y="4871880"/>
            <a:ext cx="14288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fall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=0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=90º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=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7980480" y="4871880"/>
            <a:ext cx="15969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Jet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=0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=45º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=hol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8064360" y="2352600"/>
            <a:ext cx="15130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Jet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=0.998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=90º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=hol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4338720" y="7156440"/>
            <a:ext cx="5551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r">
              <a:lnSpc>
                <a:spcPct val="93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gol, Falcke, Melia, et al. (2001), conf. pro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861840" y="577800"/>
            <a:ext cx="8356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adiation Pressure: BH mass li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874800" y="2936880"/>
                <a:ext cx="8665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c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/>
                    </m:sSub>
                    <m:r>
                      <m:t xml:space="preserve">≈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/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erg 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/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n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erg 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AutoShape 4"/>
          <p:cNvSpPr/>
          <p:nvPr/>
        </p:nvSpPr>
        <p:spPr>
          <a:xfrm>
            <a:off x="722160" y="2779560"/>
            <a:ext cx="8915400" cy="1143000"/>
          </a:xfrm>
          <a:prstGeom prst="roundRect">
            <a:avLst>
              <a:gd name="adj" fmla="val 4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31880" y="4203720"/>
            <a:ext cx="876132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is known as the Eddington limit, which can be used to establish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nimum for the mass of the BH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typical Seyfert galaxies L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≈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4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rg s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−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, so  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S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≈ 8 x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su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SOs                 L ≈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4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rg s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−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, so 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QS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≈ 8 x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su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Eddington luminosity is the maximum luminosity emitted by a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f mas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●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that is powered by spherical accr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5497560" y="4565520"/>
                <a:ext cx="2328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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 Box 7"/>
          <p:cNvSpPr/>
          <p:nvPr/>
        </p:nvSpPr>
        <p:spPr>
          <a:xfrm>
            <a:off x="7545240" y="4797360"/>
            <a:ext cx="45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682720" y="2092320"/>
            <a:ext cx="379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Comic Sans MS"/>
              </a:rPr>
              <a:t>Eddington Li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333333"/>
                </a:solidFill>
                <a:latin typeface="Arial"/>
              </a:rPr>
              <a:t>Jet Model GR Ray Trac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939960" y="2268360"/>
            <a:ext cx="8369280" cy="50389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6"/>
          <p:cNvSpPr/>
          <p:nvPr/>
        </p:nvSpPr>
        <p:spPr>
          <a:xfrm>
            <a:off x="3897360" y="6927840"/>
            <a:ext cx="53830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roderick, Falcke, Bower (in eternal pre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5616720" y="5824440"/>
            <a:ext cx="342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ZapfDingbats"/>
                <a:ea typeface="ZapfDingbats"/>
              </a:rPr>
              <a:t>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Log frequency (H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5824440" y="2127240"/>
            <a:ext cx="3695760" cy="18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3087720" y="590400"/>
            <a:ext cx="39034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eneral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96880" y="2011320"/>
            <a:ext cx="92044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assive (relativistic?) object is required to a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ly ionized gas being blown away by radiation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ccretion effeciency of SMBH can be 0.06-0.4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ing the problem with the “low” nuclear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cy (~0.007) of stars (if they were the cause of AG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idence for massive objects (SMBH) come fro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Stellar/gas kinematics: Increasing to very small rad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Mega-masers: Keplerian velocity of gas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Broadened Fe lines: Relativistic accretion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Reverberation Mapping: BLR response to continuum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gr A* !!!: Individial stellar orbits around Galactic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861840" y="577800"/>
            <a:ext cx="8356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adiation Pressure: BH mass li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777960" y="2556000"/>
            <a:ext cx="876276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ce, the luminosity of an AGN sets a limit on its ma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pendent from size/distance (both radiatio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gravity decrease as 1/r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does NOT imply a SMBH, but combined with an u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s on the volume (e.g. from variability) it can li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s (clusters of compact 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y black hole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the Eddington mass &gt;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 size constraints &lt;1pc from variability one can derive a robust lower limit for the central mass density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&gt;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comparison remember tha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vicinity there are only a few stars within a parsec dist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ral star cluster in our Galaxy has “only” ~4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was then suggested that the activity in the active nuclei was produced by a accreting black hole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B: The term ``black hole'' was invented by John Wheeler in 1967 well after the concept was invent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is a black Ho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lack hole is a concentration of mass so large, that even light cannot escape its gravitational attraction (i.e. space curvat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lack hole has only two parameters (we ignore charge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440" indent="-2728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440" indent="-2728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in 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unit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n-rotating black hole (a=0) is called a Schwarzschild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tating black hole (0&lt;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is called a Kerr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is a black Ho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11320" y="2101680"/>
            <a:ext cx="78674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chwarzschild Radius et al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41240" y="2101680"/>
            <a:ext cx="86076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ng kinetic and potential energy in a gravitating system yield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the Schwarzschild radius and defines the event horizon in the Schwarzschild metric (non-rotating black ho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mass of the earth (3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e hav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quasar with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hav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 = 2 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oretical papers one often uses G=c(=M)=1. The unit of length then is one gravitational radiu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GM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 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maximally rotating black hole (a=1) the event horizon is 1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5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3325680" y="2851200"/>
                <a:ext cx="3975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/>
                        </m:sSub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limUpp>
                      <m:e>
                        <m:r>
                          <m:t xml:space="preserve">⇒</m:t>
                        </m:r>
                      </m:e>
                      <m:lim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lim>
                    </m:limUpp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/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on Koopmans</dc:creator>
  <dc:description/>
  <dc:language>en-US</dc:language>
  <cp:lastModifiedBy>Heino Falcke</cp:lastModifiedBy>
  <dcterms:modified xsi:type="dcterms:W3CDTF">2008-09-09T13:39:54Z</dcterms:modified>
  <cp:revision>10</cp:revision>
  <dc:subject/>
  <dc:title>Slide 1</dc:title>
</cp:coreProperties>
</file>