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55A7-0FFE-4812-8113-19B22AA0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85A-F611-4F6E-83CF-3F98C64D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ECF-DEE8-418F-8307-3E275800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4DA-4408-4FE6-8D4F-44492A2E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A44A-EFEA-4BBF-B74A-DBEE57EF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295B-77E0-414C-BA03-0669F9D1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A04B-E3ED-40A3-9C9C-CF84F422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ACC1-459F-4F0B-BD54-645C72F5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7EBB-1594-4C77-AF5F-2C19B1FF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E5DF-C096-41C4-8634-3E66E3E5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D3E0-2743-4760-A8FB-9FF88FCA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65F-CAD3-4F7B-8B03-434729FF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53B4-38E5-4117-8A68-2E188893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7323-2647-4A1C-9475-9C0F48B0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09C2-3BF4-47DA-BCAD-02D1F95A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D2C0-1A4F-4609-879A-D5FD4BF4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B1E5-D040-4F8D-935E-03677DA6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E6A-DA8B-43D4-A029-997FB436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73E-AD42-4150-8694-96E21FE7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BF4-7919-44D3-858B-98B2688C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A1C-B0A9-4BC8-B0FA-9D49F574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002E-4D50-478A-AE71-02941280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64D-8942-4D8B-8EC9-339B98B4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FE86-4B4E-4D7E-AF98-C46D80C1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7E937-2134-47C4-9C08-CF1B453B4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154F3-2C30-487E-BCDC-25A7F1805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76440" y="485640"/>
            <a:ext cx="69310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tion Active Galactic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62240" y="1228680"/>
            <a:ext cx="735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ecture -4- Evidence &amp; (some) Physics of BH'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95680" y="2057400"/>
            <a:ext cx="4689360" cy="51814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5920" y="1649520"/>
            <a:ext cx="4114800" cy="5823000"/>
          </a:xfrm>
          <a:custGeom>
            <a:avLst/>
            <a:gdLst>
              <a:gd name="textAreaLeft" fmla="*/ 26640 w 4114800"/>
              <a:gd name="textAreaRight" fmla="*/ 4088160 w 4114800"/>
              <a:gd name="textAreaTop" fmla="*/ 26640 h 5823000"/>
              <a:gd name="textAreaBottom" fmla="*/ 5796360 h 5823000"/>
            </a:gdLst>
            <a:ahLst/>
            <a:rect l="textAreaLeft" t="textAreaTop" r="textAreaRight" b="textAreaBottom"/>
            <a:pathLst>
              <a:path w="21600" h="30566">
                <a:moveTo>
                  <a:pt x="483" y="0"/>
                </a:moveTo>
                <a:arcTo wR="483" hR="483" stAng="16200000" swAng="-5400000"/>
                <a:lnTo>
                  <a:pt x="0" y="30083"/>
                </a:lnTo>
                <a:arcTo wR="483" hR="483" stAng="10800000" swAng="-5400000"/>
                <a:lnTo>
                  <a:pt x="21117" y="30566"/>
                </a:lnTo>
                <a:arcTo wR="483" hR="483" stAng="5400000" swAng="-5400000"/>
                <a:lnTo>
                  <a:pt x="21600" y="483"/>
                </a:lnTo>
                <a:arcTo wR="483" hR="483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47560" y="1841400"/>
            <a:ext cx="3832200" cy="5486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36800" y="219240"/>
            <a:ext cx="62053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ccretion Efficiency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on-Rotating Black 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6000" y="2093760"/>
            <a:ext cx="47894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non-zero restmass part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L&gt;0: (G=c=1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614840" y="3308400"/>
                <a:ext cx="5157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∞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6567480" y="3319560"/>
            <a:ext cx="3200400" cy="914400"/>
          </a:xfrm>
          <a:prstGeom prst="roundRect">
            <a:avLst>
              <a:gd name="adj" fmla="val 17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51680" y="4281480"/>
            <a:ext cx="2222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ffective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24560" y="3319560"/>
            <a:ext cx="817560" cy="914400"/>
          </a:xfrm>
          <a:custGeom>
            <a:avLst/>
            <a:gdLst>
              <a:gd name="textAreaLeft" fmla="*/ 360 w 817560"/>
              <a:gd name="textAreaRight" fmla="*/ 817200 w 817560"/>
              <a:gd name="textAreaTop" fmla="*/ 360 h 914400"/>
              <a:gd name="textAreaBottom" fmla="*/ 914040 h 914400"/>
            </a:gdLst>
            <a:ahLst/>
            <a:rect l="textAreaLeft" t="textAreaTop" r="textAreaRight" b="textAreaBottom"/>
            <a:pathLst>
              <a:path w="21600" h="24157">
                <a:moveTo>
                  <a:pt x="42" y="0"/>
                </a:moveTo>
                <a:arcTo wR="42" hR="42" stAng="16200000" swAng="-5400000"/>
                <a:lnTo>
                  <a:pt x="0" y="24115"/>
                </a:lnTo>
                <a:arcTo wR="42" hR="42" stAng="10800000" swAng="-5400000"/>
                <a:lnTo>
                  <a:pt x="21558" y="24157"/>
                </a:lnTo>
                <a:arcTo wR="42" hR="42" stAng="5400000" swAng="-5400000"/>
                <a:lnTo>
                  <a:pt x="21600" y="42"/>
                </a:lnTo>
                <a:arcTo wR="42" hR="42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6880" y="4281480"/>
            <a:ext cx="19717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cle (pseudo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E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02120" y="5135400"/>
            <a:ext cx="4883400" cy="22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les with L&gt;0 will move in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retion disk on (quasi) circ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bits (dr/dt=0), loosing the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ular momentum and energ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rolik Chapt. 5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5200" y="1865160"/>
            <a:ext cx="3778200" cy="5450040"/>
          </a:xfrm>
          <a:custGeom>
            <a:avLst/>
            <a:gdLst>
              <a:gd name="textAreaLeft" fmla="*/ 360 w 3778200"/>
              <a:gd name="textAreaRight" fmla="*/ 3777840 w 3778200"/>
              <a:gd name="textAreaTop" fmla="*/ 360 h 5450040"/>
              <a:gd name="textAreaBottom" fmla="*/ 5449680 h 5450040"/>
            </a:gdLst>
            <a:ahLst/>
            <a:rect l="textAreaLeft" t="textAreaTop" r="textAreaRight" b="textAreaBottom"/>
            <a:pathLst>
              <a:path w="21600" h="31157">
                <a:moveTo>
                  <a:pt x="9" y="0"/>
                </a:moveTo>
                <a:arcTo wR="9" hR="9" stAng="16200000" swAng="-5400000"/>
                <a:lnTo>
                  <a:pt x="0" y="31148"/>
                </a:lnTo>
                <a:arcTo wR="9" hR="9" stAng="10800000" swAng="-5400000"/>
                <a:lnTo>
                  <a:pt x="21591" y="31157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noFill/>
          <a:ln w="12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36800" y="220680"/>
            <a:ext cx="62053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ccretion Efficiency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on-Rotating Black 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6320" y="2554200"/>
            <a:ext cx="90471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find the circular orbit, we need to determine the extrema of V</a:t>
            </a:r>
            <a:r>
              <a:rPr b="0" lang="en-US" sz="2200" spc="-1" strike="noStrike" baseline="-33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513160" y="3344760"/>
                <a:ext cx="4836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2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1593720" y="4643280"/>
            <a:ext cx="6980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trema are only found if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L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≥ √12 M or r</a:t>
            </a:r>
            <a:r>
              <a:rPr b="0" lang="en-US" sz="2200" spc="-1" strike="noStrike" baseline="-33000">
                <a:solidFill>
                  <a:srgbClr val="ff0000"/>
                </a:solidFill>
                <a:latin typeface="Comic Sans MS"/>
                <a:ea typeface="Comic Sans MS"/>
              </a:rPr>
              <a:t>ms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 ≥ 6 GM/c</a:t>
            </a:r>
            <a:r>
              <a:rPr b="0" lang="en-US" sz="2200" spc="-1" strike="noStrike" baseline="33000">
                <a:solidFill>
                  <a:srgbClr val="ff0000"/>
                </a:solidFill>
                <a:latin typeface="Comic Sans MS"/>
                <a:ea typeface="Comic Sans M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040" y="5630760"/>
            <a:ext cx="88279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ence the </a:t>
            </a:r>
            <a:r>
              <a:rPr b="0" lang="en-US" sz="2200" spc="-1" strike="noStrike">
                <a:solidFill>
                  <a:srgbClr val="000080"/>
                </a:solidFill>
                <a:latin typeface="Comic Sans MS"/>
              </a:rPr>
              <a:t>“innermost stable” or “marginally stable” orbi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s 6 times the Schwarzschild radius.  Inside that radi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O circular orbits exist and the gas/particles plunge into the BH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936800" y="220680"/>
            <a:ext cx="62053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ccretion Efficiency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on-Rotating Black 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5160" y="1974960"/>
            <a:ext cx="843768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mic Sans MS"/>
              </a:rPr>
              <a:t>What does this imply for the SMBH accretion efficien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ow much energy is lost “down the road” from infinity till 6M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79720" y="3514680"/>
            <a:ext cx="59547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(a) Pseudo energy at 6 R</a:t>
            </a:r>
            <a:r>
              <a:rPr b="0" lang="en-US" sz="2200" spc="-1" strike="noStrike" baseline="-33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:      E</a:t>
            </a:r>
            <a:r>
              <a:rPr b="0" lang="en-US" sz="2200" spc="-1" strike="noStrike" baseline="-33000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(6M) = 4/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Comic Sans MS"/>
              </a:rPr>
              <a:t>                                                                </a:t>
            </a:r>
            <a:r>
              <a:rPr b="0" lang="en-US" sz="1600" spc="-1" strike="noStrike">
                <a:solidFill>
                  <a:srgbClr val="000080"/>
                </a:solidFill>
                <a:latin typeface="Comic Sans MS"/>
              </a:rPr>
              <a:t>(energy of particle)</a:t>
            </a:r>
            <a:r>
              <a:rPr b="0" lang="en-US" sz="1600" spc="-1" strike="noStrike">
                <a:solidFill>
                  <a:srgbClr val="000080"/>
                </a:solidFill>
                <a:latin typeface="Comic Sans M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(b) Associated       E</a:t>
            </a:r>
            <a:r>
              <a:rPr b="0" lang="en-US" sz="2200" spc="-1" strike="noStrike" baseline="-33000">
                <a:solidFill>
                  <a:srgbClr val="ff0000"/>
                </a:solidFill>
                <a:latin typeface="Comic Sans MS"/>
                <a:ea typeface="Comic Sans MS"/>
              </a:rPr>
              <a:t>∞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 = √[2E</a:t>
            </a:r>
            <a:r>
              <a:rPr b="0" lang="en-US" sz="2200" spc="-1" strike="noStrike" baseline="-33000">
                <a:solidFill>
                  <a:srgbClr val="ff0000"/>
                </a:solidFill>
                <a:latin typeface="Comic Sans MS"/>
                <a:ea typeface="Comic Sans MS"/>
              </a:rPr>
              <a:t>*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(6M)] = (√8)/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Comic Sans MS"/>
                <a:ea typeface="Comic Sans MS"/>
              </a:rPr>
              <a:t>                                </a:t>
            </a:r>
            <a:r>
              <a:rPr b="0" lang="en-US" sz="1600" spc="-1" strike="noStrike">
                <a:solidFill>
                  <a:srgbClr val="000080"/>
                </a:solidFill>
                <a:latin typeface="Comic Sans MS"/>
                <a:ea typeface="Comic Sans MS"/>
              </a:rPr>
              <a:t>(what is should be if no energy was lost)</a:t>
            </a:r>
            <a:r>
              <a:rPr b="0" lang="en-US" sz="1600" spc="-1" strike="noStrike">
                <a:solidFill>
                  <a:srgbClr val="000080"/>
                </a:solidFill>
                <a:latin typeface="Comic Sans MS"/>
                <a:ea typeface="Comic Sans M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(c) Binding energy: E</a:t>
            </a:r>
            <a:r>
              <a:rPr b="0" lang="en-US" sz="2200" spc="-1" strike="noStrike" baseline="-33000">
                <a:solidFill>
                  <a:srgbClr val="ff0000"/>
                </a:solidFill>
                <a:latin typeface="Comic Sans MS"/>
                <a:ea typeface="Comic Sans MS"/>
              </a:rPr>
              <a:t>B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 = 1 – E</a:t>
            </a:r>
            <a:r>
              <a:rPr b="0" lang="en-US" sz="2200" spc="-1" strike="noStrike" baseline="-33000">
                <a:solidFill>
                  <a:srgbClr val="ff0000"/>
                </a:solidFill>
                <a:latin typeface="Comic Sans MS"/>
                <a:ea typeface="Comic Sans MS"/>
              </a:rPr>
              <a:t>∞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 = 0.05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Comic Sans MS"/>
                <a:ea typeface="Comic Sans MS"/>
              </a:rPr>
              <a:t>                                </a:t>
            </a:r>
            <a:r>
              <a:rPr b="0" lang="en-US" sz="1600" spc="-1" strike="noStrike">
                <a:solidFill>
                  <a:srgbClr val="000080"/>
                </a:solidFill>
                <a:latin typeface="Comic Sans MS"/>
                <a:ea typeface="Comic Sans MS"/>
              </a:rPr>
              <a:t>(hence this is what was lost on the way)</a:t>
            </a:r>
            <a:r>
              <a:rPr b="0" lang="en-US" sz="1600" spc="-1" strike="noStrike">
                <a:solidFill>
                  <a:srgbClr val="000080"/>
                </a:solidFill>
                <a:latin typeface="Comic Sans MS"/>
                <a:ea typeface="Comic Sans M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7320" y="6016680"/>
            <a:ext cx="85042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ence 6% (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η=0.06)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f the particle restmass has been conver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(mostly radiative) energy through loosing angular mo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redshifting accounted fo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172200"/>
            <a:ext cx="8915400" cy="685800"/>
          </a:xfrm>
          <a:prstGeom prst="roundRect">
            <a:avLst>
              <a:gd name="adj" fmla="val 231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41480" y="220680"/>
            <a:ext cx="619920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ccretion Efficiency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otating Black 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4280" y="2743200"/>
            <a:ext cx="76503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rotating black holes the situations is 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icult (see Krolik), but the procedure i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6400" y="4154400"/>
            <a:ext cx="8469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this case:  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r</a:t>
            </a:r>
            <a:r>
              <a:rPr b="0" lang="en-US" sz="2200" spc="-1" strike="noStrike" baseline="-33000">
                <a:solidFill>
                  <a:srgbClr val="ff0000"/>
                </a:solidFill>
                <a:latin typeface="Comic Sans MS"/>
                <a:ea typeface="Comic Sans MS"/>
              </a:rPr>
              <a:t>ms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 ~ GM/c</a:t>
            </a:r>
            <a:r>
              <a:rPr b="0" lang="en-US" sz="2200" spc="-1" strike="noStrike" baseline="33000">
                <a:solidFill>
                  <a:srgbClr val="ff0000"/>
                </a:solidFill>
                <a:latin typeface="Comic Sans MS"/>
                <a:ea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η=1-1/√3 = 0.42 for a maximally rotating (Kerr) Black H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43040" y="6221520"/>
            <a:ext cx="898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ence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η=0.06 - 0.42 for non- to maximally-rotating BHs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23960" y="3719520"/>
            <a:ext cx="899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rect observational evidence for massive objects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centers of (AGN host) galax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25560" y="200160"/>
            <a:ext cx="822960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M31 – Andromeda: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Stellar Kinema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3200" y="2824200"/>
            <a:ext cx="403848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1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Velocity dispersion increases to 250 km/s toward c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1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Radial velocities increase to 200 km/s before passing through c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1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Kormendy (1988) derived a mass  of about 10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7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s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16680" y="2320920"/>
            <a:ext cx="4038480" cy="45259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25560" y="271440"/>
            <a:ext cx="822960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M87 (Massive Elliptical):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Gas Kinema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4520" y="3147840"/>
            <a:ext cx="445752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1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Radial Velocity measurements using spectroscopy of emission lines of ionized g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1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Ford et al. conclude a mass of 2.4 x 10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omic Sans MS"/>
              </a:rPr>
              <a:t>sun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within the inner 18 parsecs of the nucle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11960" y="2247840"/>
            <a:ext cx="4038480" cy="45259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776920" y="1973160"/>
            <a:ext cx="4233960" cy="5486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209080" y="5734080"/>
            <a:ext cx="82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20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172360" y="3195720"/>
            <a:ext cx="827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280" y="4581360"/>
            <a:ext cx="50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859120"/>
            <a:ext cx="525780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O megamaser @ 22 GHz detected in NGC 4258 in a warped annulus of 0.14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−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0.28pc and less than 10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omic Sans MS"/>
              </a:rPr>
              <a:t>15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cm of thickness, with a beaming angle of 1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°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8000"/>
                </a:solidFill>
                <a:latin typeface="Comic Sans MS"/>
              </a:rPr>
              <a:t>(Miyoshi et al. 1995, Maloney 200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Combining the Doppler velocities (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±900km s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−1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) and the time to transverse the angular distance  (0.14 pc) gives the mass of the nucleus  3.9 x 10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7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sun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within 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r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≤ 0.012 p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60480" y="271440"/>
            <a:ext cx="822960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NGC 4258: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Megamas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60480" y="271440"/>
            <a:ext cx="822960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NGC 4258: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Megamas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900520" y="1936800"/>
            <a:ext cx="4892400" cy="54864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25560" y="38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MCG-6-30-15: </a:t>
            </a:r>
            <a:r>
              <a:rPr b="1" lang="es-MX" sz="40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1" lang="el-GR" sz="4000" spc="-1" strike="noStrike">
                <a:solidFill>
                  <a:srgbClr val="ff0000"/>
                </a:solidFill>
                <a:latin typeface="Comic Sans MS"/>
                <a:ea typeface="Arial"/>
              </a:rPr>
              <a:t>α</a:t>
            </a:r>
            <a:r>
              <a:rPr b="1" lang="es-MX" sz="4000" spc="-1" strike="noStrike">
                <a:solidFill>
                  <a:srgbClr val="ff0000"/>
                </a:solidFill>
                <a:latin typeface="Comic Sans MS"/>
              </a:rPr>
              <a:t> Fe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716200"/>
            <a:ext cx="431316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1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X-ray spectroscopy in Seyferts has revealed highly broadened iron K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α lines on the order of 10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4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km/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1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Future X-ray observations will give better estimate on mass of central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1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Greene et al. derived a mass of about 5 x 10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6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s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440320" y="2392200"/>
            <a:ext cx="4038480" cy="45262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0" y="722160"/>
            <a:ext cx="2901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L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1560" y="3174840"/>
            <a:ext cx="751176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Comic Sans MS"/>
              </a:rPr>
              <a:t>Give a general overview of the (more direct)</a:t>
            </a:r>
            <a:r>
              <a:rPr b="0" lang="en-US" sz="2800" spc="-1" strike="noStrike">
                <a:solidFill>
                  <a:srgbClr val="000080"/>
                </a:solidFill>
                <a:latin typeface="Comic Sans MS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Comic Sans MS"/>
              </a:rPr>
              <a:t>evidence for BHs in the centers of A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Comic Sans MS"/>
              </a:rPr>
              <a:t>and (some of) their phys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ad Chapt.3 of Pete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ad Chapt.5 of Krolik (optional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1996920"/>
            <a:ext cx="9144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7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profile is skewed with an extended red wing due to gravitational redshift, and a prominent blue wing which is relativisticaly boosted due to the high orbital velocities of the d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78040" y="3138480"/>
            <a:ext cx="3693960" cy="4248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913280" y="5197320"/>
            <a:ext cx="4687920" cy="2162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925560" y="38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MCG-6-30-15: </a:t>
            </a:r>
            <a:r>
              <a:rPr b="1" lang="es-MX" sz="40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1" lang="el-GR" sz="4000" spc="-1" strike="noStrike">
                <a:solidFill>
                  <a:srgbClr val="ff0000"/>
                </a:solidFill>
                <a:latin typeface="Comic Sans MS"/>
                <a:ea typeface="Arial"/>
              </a:rPr>
              <a:t>α</a:t>
            </a:r>
            <a:r>
              <a:rPr b="1" lang="es-MX" sz="4000" spc="-1" strike="noStrike">
                <a:solidFill>
                  <a:srgbClr val="ff0000"/>
                </a:solidFill>
                <a:latin typeface="Comic Sans MS"/>
              </a:rPr>
              <a:t> Fe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386480" y="3173400"/>
            <a:ext cx="2194200" cy="19479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102280" y="3849840"/>
            <a:ext cx="17319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Accreti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9516960" y="4606560"/>
            <a:ext cx="1800" cy="460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5880" y="2313000"/>
            <a:ext cx="90277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7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BLR is photoionized, since it responds to continuum variations, with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71400" y="3103560"/>
            <a:ext cx="3996000" cy="19843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183" name=""/>
          <p:cNvSpPr/>
          <p:nvPr/>
        </p:nvSpPr>
        <p:spPr>
          <a:xfrm>
            <a:off x="4789440" y="2600280"/>
            <a:ext cx="4788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7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ertain delay, which is a function of the BLR geometry, viewing angle, line emissivit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24360" y="3681360"/>
            <a:ext cx="4824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general the line response is given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962680" y="4005360"/>
                <a:ext cx="2246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824360" y="4365720"/>
            <a:ext cx="482436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called transfer function. The centroid of </a:t>
            </a: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the cross-correlation func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between the continuum and the line </a:t>
            </a: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gives the mean radius of emi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083280" y="5776920"/>
                <a:ext cx="3083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CF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ACF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4824360" y="6200640"/>
            <a:ext cx="4824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where ACF is the autocorrelation function of the continu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44640" y="217440"/>
            <a:ext cx="638964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everberation Mapping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MBH Mass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1160" y="5256360"/>
            <a:ext cx="33116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e.g., for a thin spherical shell, the BLR would respond at a delay time 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τ</a:t>
            </a:r>
            <a:r>
              <a:rPr b="0" lang="es-MX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iven by the parabolid</a:t>
            </a: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312920" y="6215040"/>
                <a:ext cx="2477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)</m:t>
                    </m:r>
                    <m:f>
                      <m:fPr>
                        <m:type m:val="lin"/>
                      </m:fPr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76360" y="1989000"/>
            <a:ext cx="4233600" cy="5486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08120" y="7170840"/>
            <a:ext cx="40608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(Peterson 2001, data from Clavel et al. 1992, Peterson et al. 1992)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06840" y="4673520"/>
            <a:ext cx="166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51280" y="2496960"/>
            <a:ext cx="65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089160"/>
            <a:ext cx="65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51280" y="3693960"/>
            <a:ext cx="65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51280" y="4286160"/>
            <a:ext cx="65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4875120"/>
            <a:ext cx="65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5465880"/>
            <a:ext cx="65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51280" y="6056280"/>
            <a:ext cx="65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65360" y="4414680"/>
            <a:ext cx="1800" cy="2286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46440" y="217440"/>
            <a:ext cx="638964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everberation Mapping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MBH Mass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10040" y="3060720"/>
            <a:ext cx="514836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If the kinematics of the BLR are Keplerian, we can apply the virial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508800" y="3992400"/>
                <a:ext cx="16365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/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f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5051520" y="5099040"/>
            <a:ext cx="4849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ith f, a factor close to 1. Measuring the line widths (FWHM) of the emission lines, we have an estimate of the velocity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dispersion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σ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6640" y="2116080"/>
            <a:ext cx="880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56080" y="2227320"/>
            <a:ext cx="2644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mic Sans MS"/>
              </a:rPr>
              <a:t>Measure time-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835160" y="2514600"/>
            <a:ext cx="4604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3440" y="4287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633680" y="2600280"/>
                <a:ext cx="4017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/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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cτ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y</m:t>
                            </m:r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ms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m s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09560" y="3429000"/>
            <a:ext cx="3106800" cy="40053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213" name=""/>
          <p:cNvSpPr/>
          <p:nvPr/>
        </p:nvSpPr>
        <p:spPr>
          <a:xfrm>
            <a:off x="5689440" y="2744640"/>
            <a:ext cx="3340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Wandel, Peterson &amp; Malkan 1999)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7400" y="7108920"/>
            <a:ext cx="16682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(Peterson &amp; Wandel 2000)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176720" y="4888080"/>
                <a:ext cx="2205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WH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c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 flipH="1">
            <a:off x="2556000" y="3862440"/>
            <a:ext cx="218880" cy="21600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00360" y="3668760"/>
            <a:ext cx="1081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600" spc="-1" strike="noStrike">
                <a:solidFill>
                  <a:srgbClr val="990099"/>
                </a:solidFill>
                <a:latin typeface="Arial"/>
              </a:rPr>
              <a:t>b=</a:t>
            </a:r>
            <a:r>
              <a:rPr b="0" lang="es-MX" sz="1600" spc="-1" strike="noStrike">
                <a:solidFill>
                  <a:srgbClr val="990099"/>
                </a:solidFill>
                <a:latin typeface="Arial"/>
                <a:ea typeface="Arial"/>
              </a:rPr>
              <a:t>−</a:t>
            </a:r>
            <a:r>
              <a:rPr b="0" lang="es-MX" sz="1600" spc="-1" strike="noStrike">
                <a:solidFill>
                  <a:srgbClr val="990099"/>
                </a:solidFill>
                <a:latin typeface="Arial"/>
              </a:rPr>
              <a:t>1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08960" y="5735520"/>
            <a:ext cx="58240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masses derived by this method range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 =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Comic Sans MS"/>
              </a:rPr>
              <a:t>su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r Sy 1s (i.e., in the range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NER NGC 4258) to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=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Comic Sans MS"/>
              </a:rPr>
              <a:t>su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r Q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56000" y="3753000"/>
            <a:ext cx="543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7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ifferent lines give you the same answer, even if the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BL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measured is diffe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32440" y="2889360"/>
            <a:ext cx="2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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46440" y="219240"/>
            <a:ext cx="638964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everberation Mapping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MBH Mass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85880" y="1986120"/>
            <a:ext cx="50166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mic Sans MS"/>
              </a:rPr>
              <a:t>The central mass is then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55840" y="2550960"/>
            <a:ext cx="7638840" cy="793800"/>
          </a:xfrm>
          <a:prstGeom prst="roundRect">
            <a:avLst>
              <a:gd name="adj" fmla="val 11597"/>
            </a:avLst>
          </a:prstGeom>
          <a:noFill/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506680" y="3790800"/>
            <a:ext cx="50655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Galactic Cen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25560" y="3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Sagittarius A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0840" y="2009880"/>
            <a:ext cx="457200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n unresolved bright continuum at radio waveleng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Essentially at 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Upper limit on size from radio measurements on order of 3 x 10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k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Several Stars in orbital motion around Sgr A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n particular S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Deduce an enclosed mass of 3.7 x 10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omic Sans MS"/>
              </a:rPr>
              <a:t>s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Other c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X-ray fla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Tidal disruption of st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173560" y="2209680"/>
            <a:ext cx="4645080" cy="48769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25560" y="3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Sagittarius A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807080" y="2128680"/>
            <a:ext cx="4724280" cy="4713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22920" y="6916680"/>
            <a:ext cx="3192480" cy="4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drea Ghez et al. (2003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8240" y="2303640"/>
            <a:ext cx="357372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verlay of Stellar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bits on Image of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1” at Galactic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25560" y="173664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mic Sans MS"/>
              </a:rPr>
              <a:t>Limit on Enclosed Mass at the Galactic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461960" y="2376360"/>
            <a:ext cx="7010640" cy="47386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234" name=""/>
          <p:cNvSpPr/>
          <p:nvPr/>
        </p:nvSpPr>
        <p:spPr>
          <a:xfrm>
            <a:off x="3948120" y="7172280"/>
            <a:ext cx="2184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zel et al. (2003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25560" y="3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Sagittarius A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87720" y="590400"/>
            <a:ext cx="39034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eneral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6880" y="2011320"/>
            <a:ext cx="92044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assive (relativistic?) object is required to av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ly ionized gas being blown away by radiation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ccretion effeciency of SMBH can be 0.06-0.4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ing the problem with the “low” nuclear b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iciency (~0.001) of stars (if they were the cause of AGN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idence for massive objects (SMBH) come fro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Comic Sans MS"/>
              </a:rPr>
              <a:t>Stellar/gas kinematics: Increasing to very small rad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Comic Sans MS"/>
              </a:rPr>
              <a:t>Mega-masers: Keplerian velocity of gas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Comic Sans MS"/>
              </a:rPr>
              <a:t>Broadened Fe lines: Relativistic accretion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Comic Sans MS"/>
              </a:rPr>
              <a:t>Reverberation Mapping: BLR response to continuum var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gr A* !!!: Individial stellar orbits around Galactic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502080" y="698400"/>
            <a:ext cx="3074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ext L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68520" y="3657600"/>
            <a:ext cx="7086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Comic Sans MS"/>
              </a:rPr>
              <a:t>AGN Energ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ased on Chapt. 4 of Krol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68400" y="2203560"/>
            <a:ext cx="843120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mic Sans MS"/>
              </a:rPr>
              <a:t>Theoretical arguments for SMBHs in AG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ation pressure: Lower Limit on M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Comic Sans MS"/>
                <a:ea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baseline="-33000">
                <a:solidFill>
                  <a:srgbClr val="000000"/>
                </a:solidFill>
                <a:latin typeface="Comic Sans MS"/>
                <a:ea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Radiation Efficiency of Accretion on B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mic Sans MS"/>
                <a:ea typeface="Comic Sans MS"/>
              </a:rPr>
              <a:t>Observational evidence for SMBH in Galaxies/AGN ho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High central stellar velocity disp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Megamaser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Radial Velocities from Ionized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Broad Iron (Fe) Kα lines (relativ. accetion disk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Reverberati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gr A* in the Galactic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90640" y="228600"/>
            <a:ext cx="829764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rguments in Favour of SMBHs 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Engines of A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61840" y="577800"/>
            <a:ext cx="83566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adiation Pressure: BH mass lim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38120" y="2227320"/>
            <a:ext cx="78361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ong-term) stability of the AGN gas requires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raviational force exceeds or equals the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sure from the AG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99120" y="3875040"/>
            <a:ext cx="1482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Comic Sans MS"/>
              </a:rPr>
              <a:t>gra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&gt; F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Comic Sans MS"/>
              </a:rPr>
              <a:t>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08560" y="4921200"/>
                <a:ext cx="2441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299200" y="6100920"/>
                <a:ext cx="377640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/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225440" y="5091120"/>
            <a:ext cx="3780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</a:rPr>
              <a:t>Radiation For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n an elec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2840" y="6027840"/>
            <a:ext cx="38718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</a:rPr>
              <a:t>Gravitational For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n elec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us proton pair (medium m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 neutral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65080" y="4836960"/>
            <a:ext cx="8686800" cy="2514600"/>
          </a:xfrm>
          <a:prstGeom prst="roundRect">
            <a:avLst>
              <a:gd name="adj" fmla="val 2144"/>
            </a:avLst>
          </a:prstGeom>
          <a:noFill/>
          <a:ln w="27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61840" y="577800"/>
            <a:ext cx="83566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adiation Pressure: BH mass lim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022400" y="2960640"/>
                <a:ext cx="8448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c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M</m:t>
                        </m:r>
                      </m:e>
                      <m:sub/>
                    </m:sSub>
                    <m:r>
                      <m:t xml:space="preserve">≈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b>
                      <m:e>
                        <m:r>
                          <m:t xml:space="preserve">M</m:t>
                        </m:r>
                      </m:e>
                      <m:sub/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erg 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/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erg 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8229600" y="3284640"/>
            <a:ext cx="453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2160" y="2779560"/>
            <a:ext cx="8915400" cy="1143000"/>
          </a:xfrm>
          <a:prstGeom prst="roundRect">
            <a:avLst>
              <a:gd name="adj" fmla="val 4722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880" y="4203720"/>
            <a:ext cx="8761320" cy="30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is is known as the Eddington limit, which can be used to establish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nimum for the mass of the BH: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r typical Seyfert galaxies L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≈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44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erg s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−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, so  M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S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≈ 8 x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M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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QSOs                 L ≈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4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erg s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−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, so M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QS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≈ 8 x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M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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Eddington luminosity is the maximum luminosity emitted by a bo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f mass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●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that is powered by spherical accre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187960" y="4659480"/>
                <a:ext cx="26240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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7545240" y="4797360"/>
            <a:ext cx="454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6320" y="2092320"/>
            <a:ext cx="288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Comic Sans MS"/>
              </a:rPr>
              <a:t>Eddington Lim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36560" y="34290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61840" y="577800"/>
            <a:ext cx="83566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adiation Pressure: BH mass lim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7960" y="2556000"/>
            <a:ext cx="876276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ce, the luminosity of an AGN sets a limit on its ma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ependent from size/distance (both radiation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gravity decrease as 1/r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does NOT imply a SMBH, but combined with an u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s on the volume (e.g. from variability) it can lim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ernatives (clusters of compact objec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36800" y="219240"/>
            <a:ext cx="62053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ccretion Efficiency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on-Rotating Black 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33600" y="2583000"/>
            <a:ext cx="70135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accretion onto the SMBH some of the rest-ma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nergy is converted into radiated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78200" y="3718080"/>
            <a:ext cx="22575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M/dt) c</a:t>
            </a:r>
            <a:r>
              <a:rPr b="0" lang="en-US" sz="24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4618080"/>
            <a:ext cx="1157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64280" y="4618080"/>
            <a:ext cx="17269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ss-accr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935520" y="4158720"/>
            <a:ext cx="457200" cy="460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076360" y="4158720"/>
            <a:ext cx="460440" cy="460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23760" y="5532480"/>
            <a:ext cx="82328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ough slow accretion (via an accretion disk; HEA)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lls onto the black hole via (quasi-circular) orbits, turning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ergy into radiation through collisions with other gas part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336600" y="2560680"/>
            <a:ext cx="10287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9120" y="6064200"/>
            <a:ext cx="3693960" cy="914400"/>
          </a:xfrm>
          <a:prstGeom prst="roundRect">
            <a:avLst>
              <a:gd name="adj" fmla="val 171"/>
            </a:avLst>
          </a:prstGeom>
          <a:solidFill>
            <a:srgbClr val="99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36800" y="219240"/>
            <a:ext cx="62053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ccretion Efficiency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on-Rotating Black 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52560" y="2473200"/>
            <a:ext cx="81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amount of energy available befo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s falls into the central black hole at some radius nR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09960" y="4282920"/>
            <a:ext cx="580356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ential Energy:          V  = GMm/(n R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warzschild radius:   R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2GM/c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90640" y="3660840"/>
            <a:ext cx="4699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Newtonian Approxi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57520" y="6221520"/>
            <a:ext cx="29656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 baseline="-33000">
                <a:solidFill>
                  <a:srgbClr val="000000"/>
                </a:solidFill>
                <a:latin typeface="Arial"/>
              </a:rPr>
              <a:t>ra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OpenSymbol"/>
                <a:ea typeface="OpenSymbol"/>
              </a:rPr>
              <a:t>≤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OpenSymbol"/>
              </a:rPr>
              <a:t>(1/2n) m c</a:t>
            </a:r>
            <a:r>
              <a:rPr b="0" lang="en-US" sz="2600" spc="-1" strike="noStrike" baseline="33000">
                <a:solidFill>
                  <a:srgbClr val="000000"/>
                </a:solidFill>
                <a:latin typeface="Comic Sans MS"/>
                <a:ea typeface="OpenSymbo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OpenSymbo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36800" y="219240"/>
            <a:ext cx="62053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ccretion Efficiency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on-Rotating Black 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4146480"/>
            <a:ext cx="82454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n is O(few), then the efficiency can be as high a 50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a particle can effectively radiate that energy aw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25720" y="2970360"/>
            <a:ext cx="64324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Comic Sans MS"/>
              </a:rPr>
              <a:t>What is n for a non-rotating Black Ho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Comic Sans MS"/>
              </a:rPr>
              <a:t>(section 5.1.3 of Krolik)</a:t>
            </a:r>
            <a:r>
              <a:rPr b="0" lang="en-US" sz="2600" spc="-1" strike="noStrike">
                <a:solidFill>
                  <a:srgbClr val="000080"/>
                </a:solidFill>
                <a:latin typeface="Comic Sans MS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0960" y="5484960"/>
            <a:ext cx="94075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articles on plunging radial orbits (L=0) don't radiate efficient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but particles with L&gt;0 do, so let's consider th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on Koopmans</dc:creator>
  <dc:description/>
  <dc:language>en-US</dc:language>
  <cp:lastModifiedBy>Leon Koopmans</cp:lastModifiedBy>
  <cp:revision>0</cp:revision>
  <dc:subject/>
  <dc:title/>
</cp:coreProperties>
</file>