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155-220A-4A37-AFA2-B238C092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FDA-4931-4890-A9E7-72F66216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D57-0307-48E7-84AA-FDF74F43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0FE-C837-4BF4-B965-B96E513C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E3E-E0FC-42D4-A762-90DEE24E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230-49CF-4004-A12E-E38BD10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9D1-C7B0-453A-993D-B64AC79C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343-CFEA-434E-B146-49E0FEE2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CF7-3CD2-484C-9BC7-67AE806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BC9-028C-46CB-9E6C-2276E17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167-19FF-4DBB-9791-3F33696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908-79DE-4BFD-A7FA-827AB7E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25FA-C3A6-425F-9943-F550014CF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76440" y="485640"/>
            <a:ext cx="6931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tion Active Galactic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6040" y="1228680"/>
            <a:ext cx="504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cture -6- Continuum E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95680" y="2057400"/>
            <a:ext cx="4689360" cy="5181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09880" y="457200"/>
            <a:ext cx="42591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3000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Å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B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8560" y="2641680"/>
            <a:ext cx="609588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9320" y="6603840"/>
            <a:ext cx="784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075680" y="4077720"/>
            <a:ext cx="115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 (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0840" y="4013280"/>
            <a:ext cx="2362320" cy="1092240"/>
          </a:xfrm>
          <a:custGeom>
            <a:avLst/>
            <a:gdLst/>
            <a:ahLst/>
            <a:rect l="l" t="t" r="r" b="b"/>
            <a:pathLst>
              <a:path w="1488" h="688">
                <a:moveTo>
                  <a:pt x="0" y="672"/>
                </a:moveTo>
                <a:cubicBezTo>
                  <a:pt x="76" y="680"/>
                  <a:pt x="152" y="688"/>
                  <a:pt x="240" y="672"/>
                </a:cubicBezTo>
                <a:cubicBezTo>
                  <a:pt x="328" y="656"/>
                  <a:pt x="456" y="608"/>
                  <a:pt x="528" y="576"/>
                </a:cubicBezTo>
                <a:cubicBezTo>
                  <a:pt x="600" y="544"/>
                  <a:pt x="632" y="504"/>
                  <a:pt x="672" y="480"/>
                </a:cubicBezTo>
                <a:cubicBezTo>
                  <a:pt x="712" y="456"/>
                  <a:pt x="728" y="432"/>
                  <a:pt x="768" y="432"/>
                </a:cubicBezTo>
                <a:cubicBezTo>
                  <a:pt x="808" y="432"/>
                  <a:pt x="872" y="480"/>
                  <a:pt x="912" y="480"/>
                </a:cubicBezTo>
                <a:cubicBezTo>
                  <a:pt x="952" y="480"/>
                  <a:pt x="960" y="464"/>
                  <a:pt x="1008" y="432"/>
                </a:cubicBezTo>
                <a:cubicBezTo>
                  <a:pt x="1056" y="400"/>
                  <a:pt x="1144" y="336"/>
                  <a:pt x="1200" y="288"/>
                </a:cubicBezTo>
                <a:cubicBezTo>
                  <a:pt x="1256" y="240"/>
                  <a:pt x="1296" y="192"/>
                  <a:pt x="1344" y="144"/>
                </a:cubicBezTo>
                <a:cubicBezTo>
                  <a:pt x="1392" y="96"/>
                  <a:pt x="1440" y="48"/>
                  <a:pt x="1488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6160" y="4394160"/>
            <a:ext cx="2286000" cy="723960"/>
          </a:xfrm>
          <a:custGeom>
            <a:avLst/>
            <a:gdLst/>
            <a:ahLst/>
            <a:rect l="l" t="t" r="r" b="b"/>
            <a:pathLst>
              <a:path w="1440" h="456">
                <a:moveTo>
                  <a:pt x="0" y="0"/>
                </a:moveTo>
                <a:cubicBezTo>
                  <a:pt x="80" y="108"/>
                  <a:pt x="160" y="216"/>
                  <a:pt x="240" y="288"/>
                </a:cubicBezTo>
                <a:cubicBezTo>
                  <a:pt x="320" y="360"/>
                  <a:pt x="400" y="408"/>
                  <a:pt x="480" y="432"/>
                </a:cubicBezTo>
                <a:cubicBezTo>
                  <a:pt x="560" y="456"/>
                  <a:pt x="616" y="432"/>
                  <a:pt x="720" y="432"/>
                </a:cubicBezTo>
                <a:cubicBezTo>
                  <a:pt x="824" y="432"/>
                  <a:pt x="984" y="432"/>
                  <a:pt x="1104" y="432"/>
                </a:cubicBezTo>
                <a:cubicBezTo>
                  <a:pt x="1224" y="432"/>
                  <a:pt x="1384" y="432"/>
                  <a:pt x="1440" y="432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7600" y="6299280"/>
            <a:ext cx="528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               15               16               17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81000" y="5689440"/>
            <a:ext cx="486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       UV      EUV   soft X-rays   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11960" y="2641680"/>
            <a:ext cx="1752480" cy="8380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60840" y="3592440"/>
            <a:ext cx="1752840" cy="762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gh-energy disk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2795400"/>
            <a:ext cx="1828800" cy="603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w-energy disk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68560" y="3556080"/>
            <a:ext cx="17524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5640" y="2717640"/>
            <a:ext cx="1828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tonize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07240" y="3479760"/>
            <a:ext cx="1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7040" y="43178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97360" y="34797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30680" y="4241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3587760"/>
            <a:ext cx="190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almer cont, FeII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356000"/>
            <a:ext cx="914400" cy="914400"/>
          </a:xfrm>
          <a:prstGeom prst="ellipse">
            <a:avLst/>
          </a:prstGeom>
          <a:noFill/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15880" y="457200"/>
            <a:ext cx="72486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GN: (Non-)Thermal E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057400"/>
            <a:ext cx="59958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Fundament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1) How much and which part of AGN SED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rmal and non-therm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520" y="3860640"/>
            <a:ext cx="74772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Particles have Maxwellian velocit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ue to coll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Non-Therm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e.g. Synchrotron radiation with power-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ergy distribution of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6005520"/>
            <a:ext cx="665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) How much emission is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primar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61000" y="6750000"/>
            <a:ext cx="1498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-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7040" y="6748560"/>
            <a:ext cx="2340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Central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751200" y="6508800"/>
            <a:ext cx="68904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6508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23840" y="2286000"/>
            <a:ext cx="8032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Big Blue Bump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s assumed to be thermal emis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the accretion disk with T=10</a:t>
            </a:r>
            <a:r>
              <a:rPr b="0" lang="en-US" sz="2600" spc="-1" strike="noStrike" baseline="33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600" spc="-1" strike="noStrike" baseline="33000">
                <a:solidFill>
                  <a:srgbClr val="000000"/>
                </a:solidFill>
                <a:latin typeface="Comic Sans MS"/>
                <a:ea typeface="Comic Sans MS"/>
              </a:rPr>
              <a:t>±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K (100Å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09800" y="3886200"/>
            <a:ext cx="80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What emission is expected from an accretion dis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33600" y="4800600"/>
            <a:ext cx="5978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ssump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cally the disk emits like a Black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ometrically/optically thin/thick d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960" y="2082960"/>
            <a:ext cx="8847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ravitational potential energy is released half (virial theorem) i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inetic energy and half in to radi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30720" y="3344760"/>
                <a:ext cx="3054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M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σ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6880" y="4572000"/>
            <a:ext cx="3043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which is follo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672000" y="5440320"/>
                <a:ext cx="223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M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σ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322360" y="6629400"/>
            <a:ext cx="5448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this is an approximation, averaged over the disk)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4480" y="2257560"/>
            <a:ext cx="76215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reality, energy is dissipat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locall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the disk thr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scosity. This yiel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25520" y="3597120"/>
                <a:ext cx="4262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M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σ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r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008000" y="4556160"/>
            <a:ext cx="4604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24080" y="5145120"/>
                <a:ext cx="368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M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σ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998640" y="6642000"/>
            <a:ext cx="2919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r&gt;&gt;R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R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≈ R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  <a:ea typeface="Comic Sans MS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691240" y="3321000"/>
            <a:ext cx="3733920" cy="3733920"/>
            <a:chOff x="5691240" y="3321000"/>
            <a:chExt cx="3733920" cy="3733920"/>
          </a:xfrm>
        </p:grpSpPr>
        <p:grpSp>
          <p:nvGrpSpPr>
            <p:cNvPr id="139" name=""/>
            <p:cNvGrpSpPr/>
            <p:nvPr/>
          </p:nvGrpSpPr>
          <p:grpSpPr>
            <a:xfrm>
              <a:off x="5691240" y="3321000"/>
              <a:ext cx="3733920" cy="3733920"/>
              <a:chOff x="5691240" y="3321000"/>
              <a:chExt cx="3733920" cy="3733920"/>
            </a:xfrm>
          </p:grpSpPr>
          <p:sp>
            <p:nvSpPr>
              <p:cNvPr id="140" name=""/>
              <p:cNvSpPr/>
              <p:nvPr/>
            </p:nvSpPr>
            <p:spPr>
              <a:xfrm>
                <a:off x="5691240" y="3321000"/>
                <a:ext cx="3733920" cy="373392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9840" y="3549600"/>
                <a:ext cx="3276720" cy="32767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48440" y="3778200"/>
                <a:ext cx="2819520" cy="2819520"/>
              </a:xfrm>
              <a:prstGeom prst="ellipse">
                <a:avLst/>
              </a:prstGeom>
              <a:solidFill>
                <a:srgbClr val="3399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77040" y="4006800"/>
                <a:ext cx="2362320" cy="2362320"/>
              </a:xfrm>
              <a:prstGeom prst="ellipse">
                <a:avLst/>
              </a:prstGeom>
              <a:solidFill>
                <a:srgbClr val="0000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05640" y="4235400"/>
                <a:ext cx="1905120" cy="190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15120" y="4844880"/>
                <a:ext cx="685800" cy="6858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508880" y="4710240"/>
              <a:ext cx="1523880" cy="458640"/>
              <a:chOff x="7508880" y="4710240"/>
              <a:chExt cx="1523880" cy="458640"/>
            </a:xfrm>
          </p:grpSpPr>
          <p:sp>
            <p:nvSpPr>
              <p:cNvPr id="147" name=""/>
              <p:cNvSpPr/>
              <p:nvPr/>
            </p:nvSpPr>
            <p:spPr>
              <a:xfrm>
                <a:off x="7508880" y="5167440"/>
                <a:ext cx="1523880" cy="1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69760" y="4710240"/>
                <a:ext cx="3452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080" y="2286000"/>
            <a:ext cx="4245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erting R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2GM/c</a:t>
            </a:r>
            <a:r>
              <a:rPr b="0" lang="en-US" sz="22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we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62120" y="3200400"/>
                <a:ext cx="4956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70040" y="4681440"/>
            <a:ext cx="8432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peaks at ~10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Å for this typical temperature of a million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3280" y="5600880"/>
            <a:ext cx="8294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Hence the acretion disk continuum spectrum is a super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of many BB's with different tempera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4600" y="2286000"/>
            <a:ext cx="7931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we assume that the disk is optically thick (henc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uminosity does not depend on the surface mass density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isk), t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89120" y="3657600"/>
                <a:ext cx="4900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L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r</m:t>
                    </m:r>
                    <m: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</m:e>
                    </m:d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572000" y="4114800"/>
            <a:ext cx="22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6640" y="4621320"/>
            <a:ext cx="5357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the luminosity from a bin of width d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77920" y="5378400"/>
                <a:ext cx="5924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dr</m:t>
                            </m:r>
                          </m:num>
                          <m:den>
                            <m: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ν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143000" y="6629400"/>
            <a:ext cx="5715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does not have a simple solution, but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5769000"/>
            <a:ext cx="5486400" cy="914400"/>
          </a:xfrm>
          <a:prstGeom prst="roundRect">
            <a:avLst>
              <a:gd name="adj" fmla="val 171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213000"/>
            <a:ext cx="1828800" cy="914400"/>
          </a:xfrm>
          <a:prstGeom prst="roundRect">
            <a:avLst>
              <a:gd name="adj" fmla="val 171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240" y="2478240"/>
            <a:ext cx="7821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 low frequency all BBs emit like a Wien spectrum, h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86480" y="395604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38640" y="3308400"/>
                <a:ext cx="1603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11360" y="4738680"/>
            <a:ext cx="78343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 high frequencies, the spectrum has an expontial cutoff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termined by the highest temperature (at R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27400" y="5881680"/>
                <a:ext cx="5427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h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60920" y="4164120"/>
            <a:ext cx="2557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(long wavelengths)</a:t>
            </a: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65520" y="6718320"/>
            <a:ext cx="2749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(short wavelengths)</a:t>
            </a: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114800" y="5121360"/>
            <a:ext cx="1828800" cy="914400"/>
          </a:xfrm>
          <a:prstGeom prst="roundRect">
            <a:avLst>
              <a:gd name="adj" fmla="val 171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55840" y="457200"/>
            <a:ext cx="5370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313000"/>
            <a:ext cx="554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e intermediate regime, if we def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181320" y="3079800"/>
                <a:ext cx="3767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914400" y="4343400"/>
            <a:ext cx="7731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bstituting this back into the previous equation, we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67280" y="5211720"/>
                <a:ext cx="1946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259080" y="6172200"/>
            <a:ext cx="3719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(intermediate wavelengths)</a:t>
            </a:r>
            <a:r>
              <a:rPr b="0" i="1" lang="en-US" sz="2200" spc="-1" strike="noStrike">
                <a:solidFill>
                  <a:srgbClr val="008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57280" y="457200"/>
            <a:ext cx="53708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V-Optical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3254400"/>
            <a:ext cx="609624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6912000"/>
            <a:ext cx="784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183320" y="4708440"/>
            <a:ext cx="104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8480" y="4245120"/>
            <a:ext cx="2895480" cy="1649160"/>
          </a:xfrm>
          <a:custGeom>
            <a:avLst/>
            <a:gdLst/>
            <a:ahLst/>
            <a:rect l="l" t="t" r="r" b="b"/>
            <a:pathLst>
              <a:path w="1824" h="1039">
                <a:moveTo>
                  <a:pt x="0" y="943"/>
                </a:moveTo>
                <a:cubicBezTo>
                  <a:pt x="168" y="751"/>
                  <a:pt x="337" y="558"/>
                  <a:pt x="480" y="415"/>
                </a:cubicBezTo>
                <a:cubicBezTo>
                  <a:pt x="623" y="272"/>
                  <a:pt x="736" y="151"/>
                  <a:pt x="856" y="87"/>
                </a:cubicBezTo>
                <a:cubicBezTo>
                  <a:pt x="976" y="23"/>
                  <a:pt x="1087" y="0"/>
                  <a:pt x="1200" y="31"/>
                </a:cubicBezTo>
                <a:cubicBezTo>
                  <a:pt x="1313" y="62"/>
                  <a:pt x="1447" y="163"/>
                  <a:pt x="1536" y="271"/>
                </a:cubicBezTo>
                <a:cubicBezTo>
                  <a:pt x="1625" y="379"/>
                  <a:pt x="1688" y="551"/>
                  <a:pt x="1736" y="679"/>
                </a:cubicBezTo>
                <a:cubicBezTo>
                  <a:pt x="1784" y="807"/>
                  <a:pt x="1806" y="964"/>
                  <a:pt x="1824" y="1039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8640" y="4397400"/>
            <a:ext cx="2895840" cy="1649520"/>
          </a:xfrm>
          <a:custGeom>
            <a:avLst/>
            <a:gdLst/>
            <a:ahLst/>
            <a:rect l="l" t="t" r="r" b="b"/>
            <a:pathLst>
              <a:path w="1824" h="1039">
                <a:moveTo>
                  <a:pt x="0" y="943"/>
                </a:moveTo>
                <a:cubicBezTo>
                  <a:pt x="168" y="751"/>
                  <a:pt x="337" y="558"/>
                  <a:pt x="480" y="415"/>
                </a:cubicBezTo>
                <a:cubicBezTo>
                  <a:pt x="623" y="272"/>
                  <a:pt x="736" y="151"/>
                  <a:pt x="856" y="87"/>
                </a:cubicBezTo>
                <a:cubicBezTo>
                  <a:pt x="976" y="23"/>
                  <a:pt x="1087" y="0"/>
                  <a:pt x="1200" y="31"/>
                </a:cubicBezTo>
                <a:cubicBezTo>
                  <a:pt x="1313" y="62"/>
                  <a:pt x="1447" y="163"/>
                  <a:pt x="1536" y="271"/>
                </a:cubicBezTo>
                <a:cubicBezTo>
                  <a:pt x="1625" y="379"/>
                  <a:pt x="1688" y="551"/>
                  <a:pt x="1736" y="679"/>
                </a:cubicBezTo>
                <a:cubicBezTo>
                  <a:pt x="1784" y="807"/>
                  <a:pt x="1806" y="964"/>
                  <a:pt x="1824" y="1039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2840" y="4626000"/>
            <a:ext cx="2895840" cy="1649520"/>
          </a:xfrm>
          <a:custGeom>
            <a:avLst/>
            <a:gdLst/>
            <a:ahLst/>
            <a:rect l="l" t="t" r="r" b="b"/>
            <a:pathLst>
              <a:path w="1824" h="1039">
                <a:moveTo>
                  <a:pt x="0" y="943"/>
                </a:moveTo>
                <a:cubicBezTo>
                  <a:pt x="168" y="751"/>
                  <a:pt x="337" y="558"/>
                  <a:pt x="480" y="415"/>
                </a:cubicBezTo>
                <a:cubicBezTo>
                  <a:pt x="623" y="272"/>
                  <a:pt x="736" y="151"/>
                  <a:pt x="856" y="87"/>
                </a:cubicBezTo>
                <a:cubicBezTo>
                  <a:pt x="976" y="23"/>
                  <a:pt x="1087" y="0"/>
                  <a:pt x="1200" y="31"/>
                </a:cubicBezTo>
                <a:cubicBezTo>
                  <a:pt x="1313" y="62"/>
                  <a:pt x="1447" y="163"/>
                  <a:pt x="1536" y="271"/>
                </a:cubicBezTo>
                <a:cubicBezTo>
                  <a:pt x="1625" y="379"/>
                  <a:pt x="1688" y="551"/>
                  <a:pt x="1736" y="679"/>
                </a:cubicBezTo>
                <a:cubicBezTo>
                  <a:pt x="1784" y="807"/>
                  <a:pt x="1806" y="964"/>
                  <a:pt x="1824" y="103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21080" y="5006880"/>
            <a:ext cx="2895480" cy="1649520"/>
          </a:xfrm>
          <a:custGeom>
            <a:avLst/>
            <a:gdLst/>
            <a:ahLst/>
            <a:rect l="l" t="t" r="r" b="b"/>
            <a:pathLst>
              <a:path w="1824" h="1039">
                <a:moveTo>
                  <a:pt x="0" y="943"/>
                </a:moveTo>
                <a:cubicBezTo>
                  <a:pt x="168" y="751"/>
                  <a:pt x="337" y="558"/>
                  <a:pt x="480" y="415"/>
                </a:cubicBezTo>
                <a:cubicBezTo>
                  <a:pt x="623" y="272"/>
                  <a:pt x="736" y="151"/>
                  <a:pt x="856" y="87"/>
                </a:cubicBezTo>
                <a:cubicBezTo>
                  <a:pt x="976" y="23"/>
                  <a:pt x="1087" y="0"/>
                  <a:pt x="1200" y="31"/>
                </a:cubicBezTo>
                <a:cubicBezTo>
                  <a:pt x="1313" y="62"/>
                  <a:pt x="1447" y="163"/>
                  <a:pt x="1536" y="271"/>
                </a:cubicBezTo>
                <a:cubicBezTo>
                  <a:pt x="1625" y="379"/>
                  <a:pt x="1688" y="551"/>
                  <a:pt x="1736" y="679"/>
                </a:cubicBezTo>
                <a:cubicBezTo>
                  <a:pt x="1784" y="807"/>
                  <a:pt x="1806" y="964"/>
                  <a:pt x="1824" y="103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1080" y="4016520"/>
            <a:ext cx="5130720" cy="2442960"/>
          </a:xfrm>
          <a:custGeom>
            <a:avLst/>
            <a:gdLst/>
            <a:ahLst/>
            <a:rect l="l" t="t" r="r" b="b"/>
            <a:pathLst>
              <a:path w="3232" h="1539">
                <a:moveTo>
                  <a:pt x="0" y="1499"/>
                </a:moveTo>
                <a:cubicBezTo>
                  <a:pt x="127" y="1370"/>
                  <a:pt x="532" y="918"/>
                  <a:pt x="760" y="723"/>
                </a:cubicBezTo>
                <a:cubicBezTo>
                  <a:pt x="988" y="528"/>
                  <a:pt x="1177" y="435"/>
                  <a:pt x="1368" y="331"/>
                </a:cubicBezTo>
                <a:cubicBezTo>
                  <a:pt x="1559" y="227"/>
                  <a:pt x="1724" y="148"/>
                  <a:pt x="1904" y="99"/>
                </a:cubicBezTo>
                <a:cubicBezTo>
                  <a:pt x="2084" y="50"/>
                  <a:pt x="2295" y="0"/>
                  <a:pt x="2448" y="35"/>
                </a:cubicBezTo>
                <a:cubicBezTo>
                  <a:pt x="2601" y="70"/>
                  <a:pt x="2728" y="199"/>
                  <a:pt x="2824" y="307"/>
                </a:cubicBezTo>
                <a:cubicBezTo>
                  <a:pt x="2920" y="415"/>
                  <a:pt x="2956" y="478"/>
                  <a:pt x="3024" y="683"/>
                </a:cubicBezTo>
                <a:cubicBezTo>
                  <a:pt x="3092" y="888"/>
                  <a:pt x="3189" y="1361"/>
                  <a:pt x="3232" y="15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70840" y="3559320"/>
            <a:ext cx="234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disk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30320" y="6454800"/>
            <a:ext cx="249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ular BB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11440" y="39402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898720" y="6070680"/>
            <a:ext cx="844560" cy="38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84160" y="5918040"/>
            <a:ext cx="235080" cy="5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92680" y="5765400"/>
            <a:ext cx="228600" cy="69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044960" y="5689080"/>
            <a:ext cx="6094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1960" y="2286000"/>
            <a:ext cx="895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uperposition of these BB spectra will thus look li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84640" y="722160"/>
            <a:ext cx="3511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6720" y="3174840"/>
            <a:ext cx="69469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Give a general overview of the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emission from AGN (next lectur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physics of accre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 Chapt.4 of Pet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87520" y="250920"/>
            <a:ext cx="89042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bservations of Optical-to-UV Continu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4040" y="6475320"/>
            <a:ext cx="77108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Disk interpretation is controversi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3720" y="2754360"/>
            <a:ext cx="81532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fter removing the small blue bump, the observed continuum goes as </a:t>
            </a:r>
            <a:r>
              <a:rPr b="0" lang="el-GR" sz="26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ving the extrapolation of the IR power law gives </a:t>
            </a:r>
            <a:r>
              <a:rPr b="0" lang="el-GR" sz="26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1/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- but is the IR really described by a power law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re complex models predict Polarization and Lyman edge – neither convincingly observ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551400" y="554040"/>
            <a:ext cx="2898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ar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17720" y="2286000"/>
            <a:ext cx="80452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More observational clues come from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V &amp; Optical vary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tion are larger at higher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mall variations in UV are smoothed out at lower freq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t variability at longer time-scales [P(f)</a:t>
            </a:r>
            <a:r>
              <a:rPr b="0" lang="en-US" sz="2200" spc="-1" strike="noStrike">
                <a:solidFill>
                  <a:srgbClr val="000000"/>
                </a:solidFill>
                <a:latin typeface="OpenSymbol"/>
                <a:ea typeface="OpenSymbol"/>
              </a:rPr>
              <a:t>∝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OpenSymbol"/>
              </a:rPr>
              <a:t> 1/f</a:t>
            </a:r>
            <a:r>
              <a:rPr b="0" lang="en-US" sz="2200" spc="-1" strike="noStrike" baseline="33000">
                <a:solidFill>
                  <a:srgbClr val="000000"/>
                </a:solidFill>
                <a:latin typeface="Comic Sans MS"/>
                <a:ea typeface="OpenSymbol"/>
              </a:rPr>
              <a:t>2-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OpenSymbo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22400" y="5715000"/>
            <a:ext cx="8037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Simultaneous UV &amp; Optical variability is a major problem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models with the T-gradient outwar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54160" y="46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ternative interpreta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4160" y="2268360"/>
            <a:ext cx="77724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tical-UV could be due to free-free (bremsstrahlung) emission from many small clouds in a optically thin disk (Barvainis 1993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lope consistent with observed (</a:t>
            </a:r>
            <a:r>
              <a:rPr b="0" lang="el-GR" sz="2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~0.3), low polarization and weak Lyman edge predic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s high T~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9600" y="6450120"/>
            <a:ext cx="4986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Disadvantage: low efficien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68440" y="457200"/>
            <a:ext cx="53434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rared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79360" y="2432160"/>
            <a:ext cx="77724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most radio-quiet AG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is evidence that t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R emission is thermal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e to heated du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ever, in some radio-loud AGN and blazars      the IR emission is non-thermal and due to            synchrotron emission from a je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783400" y="2178000"/>
            <a:ext cx="3047760" cy="2286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73080" y="2125800"/>
            <a:ext cx="868680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000080"/>
                </a:solidFill>
                <a:uFillTx/>
                <a:latin typeface="Comic Sans MS"/>
              </a:rPr>
              <a:t>Obscuration</a:t>
            </a: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y IR-bright AGN are obscured (UV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tical radiation is strongly attenuated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R excess is due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-radiation by d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10200" y="4619520"/>
            <a:ext cx="3048120" cy="2286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09" name=""/>
          <p:cNvSpPr/>
          <p:nvPr/>
        </p:nvSpPr>
        <p:spPr>
          <a:xfrm>
            <a:off x="1050840" y="528480"/>
            <a:ext cx="79790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rared Continuum: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7080" y="237636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000080"/>
                </a:solidFill>
                <a:uFillTx/>
                <a:latin typeface="Comic Sans MS"/>
              </a:rPr>
              <a:t>IR continuum variability</a:t>
            </a: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R continuum shows same variations as UV/optical but with significant de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ations arise as dust emissivity changes in response to changes of UV/optical that heat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50840" y="528480"/>
            <a:ext cx="79790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rared Continuum: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7400" y="349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st Reverb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2480" y="2116080"/>
            <a:ext cx="495324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cal varied by factor ~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R variations follow by  ~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R time delays increased with         increasing wave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697360" y="1941480"/>
            <a:ext cx="416880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61200" y="6424560"/>
            <a:ext cx="3200400" cy="68580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8640" y="1936800"/>
            <a:ext cx="4114800" cy="541476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5414760"/>
              <a:gd name="textAreaBottom" fmla="*/ 5414400 h 5414760"/>
            </a:gdLst>
            <a:ahLst/>
            <a:rect l="textAreaLeft" t="textAreaTop" r="textAreaRight" b="textAreaBottom"/>
            <a:pathLst>
              <a:path w="21600" h="28423">
                <a:moveTo>
                  <a:pt x="8" y="0"/>
                </a:moveTo>
                <a:arcTo wR="8" hR="8" stAng="16200000" swAng="-5400000"/>
                <a:lnTo>
                  <a:pt x="0" y="28415"/>
                </a:lnTo>
                <a:arcTo wR="8" hR="8" stAng="10800000" swAng="-5400000"/>
                <a:lnTo>
                  <a:pt x="21592" y="28423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60480" y="5715000"/>
            <a:ext cx="3611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Evidence for dust(torus)</a:t>
            </a: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a light year from the A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nucleus, with decreas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T as function of rad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35200" y="472932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54160" y="39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mergin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8480" y="1949400"/>
            <a:ext cx="49579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2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1mm region is domin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 thermal emission from du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xcept in blazars and 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ther radio-loud AG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fferent regions of the IR c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different distances beca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 the radial dependenc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μ minimum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ttest dust has            T~2000 K (sublimation T) and is        at ~0.1 pc (generic feature of           AG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630760" y="1949400"/>
            <a:ext cx="4233960" cy="5486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22" name=""/>
          <p:cNvSpPr/>
          <p:nvPr/>
        </p:nvSpPr>
        <p:spPr>
          <a:xfrm>
            <a:off x="6230880" y="2286000"/>
            <a:ext cx="2941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Radio Quiet Quas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31200" y="41860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035480" y="3427200"/>
            <a:ext cx="460440" cy="688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78840" y="3427200"/>
            <a:ext cx="147600" cy="617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08800" y="3021120"/>
            <a:ext cx="104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67560" y="3008160"/>
            <a:ext cx="1689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lue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807240" y="4341600"/>
            <a:ext cx="689040" cy="23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94400" y="4043520"/>
            <a:ext cx="1677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mm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99560" y="40798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59920" y="4222800"/>
            <a:ext cx="457200" cy="4460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32840" y="5140440"/>
            <a:ext cx="199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X-ray Ex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251920" y="4621320"/>
            <a:ext cx="2318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7920" y="4295880"/>
            <a:ext cx="16992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86720" y="4546440"/>
            <a:ext cx="277920" cy="254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45240" y="4729320"/>
            <a:ext cx="1427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4400" y="228600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GN are easy to find in X-rays. Away from the Galactic           plane most X-ray sources are AGN. Many X-ray selected         AGN show weak or no optical signa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X-rays come from very close to the SMBH. The most rapid      variability is seen in X-r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only spectral lines observed that come from close to         the MBH are in the X-ray band. The strongest line is from      Fe at ~6.4 keV but other lines have been obser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types of AGN are strong X-ray 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 can “X-ray” the material around AGN using the                  emission from close to the MBH as a background sou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33560" y="30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X-ray e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09560" y="2128680"/>
            <a:ext cx="9036000" cy="3200400"/>
          </a:xfrm>
          <a:prstGeom prst="roundRect">
            <a:avLst>
              <a:gd name="adj" fmla="val 4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33560" y="30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X-ray emission: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08080" y="2771640"/>
            <a:ext cx="8080200" cy="232596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3154320" y="2363760"/>
            <a:ext cx="4081680" cy="1046160"/>
            <a:chOff x="3154320" y="2363760"/>
            <a:chExt cx="4081680" cy="1046160"/>
          </a:xfrm>
        </p:grpSpPr>
        <p:sp>
          <p:nvSpPr>
            <p:cNvPr id="243" name=""/>
            <p:cNvSpPr/>
            <p:nvPr/>
          </p:nvSpPr>
          <p:spPr>
            <a:xfrm>
              <a:off x="3154320" y="2371680"/>
              <a:ext cx="7776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41840" y="2363760"/>
              <a:ext cx="7776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13160" y="2363760"/>
              <a:ext cx="7776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99040" y="2371680"/>
              <a:ext cx="7776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86560" y="2363760"/>
              <a:ext cx="7776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57880" y="2363760"/>
              <a:ext cx="78120" cy="1038240"/>
            </a:xfrm>
            <a:custGeom>
              <a:avLst/>
              <a:gdLst/>
              <a:ahLst/>
              <a:rect l="l" t="t" r="r" b="b"/>
              <a:pathLst>
                <a:path w="404" h="1554">
                  <a:moveTo>
                    <a:pt x="24" y="1554"/>
                  </a:moveTo>
                  <a:cubicBezTo>
                    <a:pt x="209" y="1453"/>
                    <a:pt x="395" y="1352"/>
                    <a:pt x="395" y="1255"/>
                  </a:cubicBezTo>
                  <a:cubicBezTo>
                    <a:pt x="395" y="1158"/>
                    <a:pt x="23" y="1070"/>
                    <a:pt x="24" y="970"/>
                  </a:cubicBezTo>
                  <a:cubicBezTo>
                    <a:pt x="25" y="870"/>
                    <a:pt x="402" y="757"/>
                    <a:pt x="403" y="655"/>
                  </a:cubicBezTo>
                  <a:cubicBezTo>
                    <a:pt x="404" y="553"/>
                    <a:pt x="64" y="434"/>
                    <a:pt x="32" y="355"/>
                  </a:cubicBezTo>
                  <a:cubicBezTo>
                    <a:pt x="0" y="276"/>
                    <a:pt x="178" y="240"/>
                    <a:pt x="213" y="181"/>
                  </a:cubicBezTo>
                  <a:cubicBezTo>
                    <a:pt x="248" y="122"/>
                    <a:pt x="246" y="61"/>
                    <a:pt x="245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33560" y="5600880"/>
            <a:ext cx="82296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215640"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ccretion flow surrounded by dusty t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B radiation from disk -&gt; ‘big blue bum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-field loops -&gt; optically thin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sotropic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X-rays from Comptonization of disk photons in hot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215640"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wer law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59120" y="2128680"/>
            <a:ext cx="6162480" cy="50292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1370160" y="501480"/>
            <a:ext cx="73404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ing the SED of A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54160" y="55548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flection and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2031840"/>
            <a:ext cx="4572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The MBH is surrounded by an accretion disk. Suppose that X-rays are generated above the dis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 observe some photons          di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thers hit the accretion disk.   Some are reflected. Some         eject an inner shell electron      from an atom to give                  fluorescent line emi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17560" y="19368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06720" y="566640"/>
            <a:ext cx="58672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GC 4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25480" y="2106720"/>
            <a:ext cx="6629400" cy="4984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55" name=""/>
          <p:cNvSpPr/>
          <p:nvPr/>
        </p:nvSpPr>
        <p:spPr>
          <a:xfrm>
            <a:off x="3821040" y="7218360"/>
            <a:ext cx="243864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dejski et al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32600" y="3141720"/>
            <a:ext cx="99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4809960"/>
            <a:ext cx="1523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f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22480" y="4232160"/>
            <a:ext cx="18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54160" y="530280"/>
            <a:ext cx="777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flected X-ray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3200" y="2286000"/>
            <a:ext cx="6934320" cy="48988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25560" y="128520"/>
            <a:ext cx="8229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strophysical Jets in Radio-Loud A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0" r="2334" b="2763"/>
          <a:stretch/>
        </p:blipFill>
        <p:spPr>
          <a:xfrm>
            <a:off x="5429160" y="2857680"/>
            <a:ext cx="3194280" cy="26859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263" name="" descr=""/>
          <p:cNvPicPr/>
          <p:nvPr/>
        </p:nvPicPr>
        <p:blipFill>
          <a:blip r:embed="rId2"/>
          <a:srcRect l="0" t="0" r="1855" b="3779"/>
          <a:stretch/>
        </p:blipFill>
        <p:spPr>
          <a:xfrm>
            <a:off x="1695600" y="2857680"/>
            <a:ext cx="3200400" cy="26668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64" name=""/>
          <p:cNvSpPr/>
          <p:nvPr/>
        </p:nvSpPr>
        <p:spPr>
          <a:xfrm>
            <a:off x="494280" y="2131920"/>
            <a:ext cx="9091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handr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monly resolves kpc-scale X-ray jet emission in nearby RL A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5120" y="5676840"/>
            <a:ext cx="86104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7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Is -&gt; kpc X-ray emission synchrotron in nature (e.g. Hardcastle et al. 2001, 2003, 200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IIs -&gt; X-ray emission tends to be inverse-Co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bout (unresolved) parsec-scale X-ray j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25560" y="165240"/>
            <a:ext cx="8229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adio-Galaxy Nuclei – Two Competing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130720" y="2655720"/>
            <a:ext cx="3876840" cy="4133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434280" y="2900520"/>
            <a:ext cx="2619360" cy="2695320"/>
          </a:xfrm>
          <a:custGeom>
            <a:avLst/>
            <a:gdLst>
              <a:gd name="textAreaLeft" fmla="*/ 1309680 w 2619360"/>
              <a:gd name="textAreaRight" fmla="*/ 2619360 w 2619360"/>
              <a:gd name="textAreaTop" fmla="*/ 0 h 2695320"/>
              <a:gd name="textAreaBottom" fmla="*/ 1347480 h 26953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 rot="2700000">
            <a:off x="7760520" y="3021480"/>
            <a:ext cx="1743120" cy="6271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94186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Radio Galax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852480" y="2433600"/>
            <a:ext cx="411624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nuclear X-ray emission domin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arsec-scale j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7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o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ccretion f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08360" y="3394080"/>
            <a:ext cx="2470320" cy="72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705200"/>
            <a:ext cx="239400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25560" y="20520"/>
            <a:ext cx="8229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idence for jet-dominated nuclear X-ray e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" y="2463840"/>
            <a:ext cx="57909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lations between the ROSAT soft X-ray    and VLA radio core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ec-scale radio emission is jet-generated     and strongly affected by b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 correlations suggest X-ray emission          affected by beaming in same manner as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 X-ray emission originates in a 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-peaked SED (modeled with syn+SSC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013520" y="2027160"/>
            <a:ext cx="2452680" cy="2843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3024" t="3035" r="3395" b="3035"/>
          <a:stretch/>
        </p:blipFill>
        <p:spPr>
          <a:xfrm>
            <a:off x="7089840" y="50227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58120" y="6622920"/>
            <a:ext cx="6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10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89840" y="502272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GC 6251 - 5 GHz VL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850160" y="7080120"/>
            <a:ext cx="16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Jones et al. (1986)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20520"/>
            <a:ext cx="9144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idence for accretion-dominated nuclear X-ray e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3400" y="271764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s) timescale variability in    broad-line FRII 3C 390.3 (Gliozzi     et al. 200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ened Fe K -&gt; line emission in     narrow-line FRI NGC 6251 (Gliozzi   et al. 2004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Fe K -&gt; origin in inner            regions of accre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37120" y="2684520"/>
            <a:ext cx="3505320" cy="3809880"/>
            <a:chOff x="5937120" y="2684520"/>
            <a:chExt cx="3505320" cy="3809880"/>
          </a:xfrm>
        </p:grpSpPr>
        <p:sp>
          <p:nvSpPr>
            <p:cNvPr id="283" name=""/>
            <p:cNvSpPr/>
            <p:nvPr/>
          </p:nvSpPr>
          <p:spPr>
            <a:xfrm>
              <a:off x="5937120" y="2684520"/>
              <a:ext cx="350532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6013440" y="2760840"/>
              <a:ext cx="337176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5902200" y="6443640"/>
            <a:ext cx="2146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C 6251 - X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ozzi et al. (200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44640" y="1887480"/>
            <a:ext cx="8153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-ray continuum emission in the nuclei of RL AGN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17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Radio-quiet” accretion-rela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17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Radio-loud” jet-rela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576760" y="3168720"/>
            <a:ext cx="3332160" cy="3352680"/>
            <a:chOff x="5576760" y="3168720"/>
            <a:chExt cx="3332160" cy="3352680"/>
          </a:xfrm>
        </p:grpSpPr>
        <p:sp>
          <p:nvSpPr>
            <p:cNvPr id="288" name=""/>
            <p:cNvSpPr/>
            <p:nvPr/>
          </p:nvSpPr>
          <p:spPr>
            <a:xfrm>
              <a:off x="5576760" y="3168720"/>
              <a:ext cx="3332160" cy="335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5673600" y="3371760"/>
              <a:ext cx="286560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37320" y="3552840"/>
              <a:ext cx="1936800" cy="1992240"/>
            </a:xfrm>
            <a:custGeom>
              <a:avLst/>
              <a:gdLst>
                <a:gd name="textAreaLeft" fmla="*/ 968400 w 1936800"/>
                <a:gd name="textAreaRight" fmla="*/ 1936800 w 1936800"/>
                <a:gd name="textAreaTop" fmla="*/ 0 h 1992240"/>
                <a:gd name="textAreaBottom" fmla="*/ 996120 h 19922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2700000">
              <a:off x="7616880" y="3643200"/>
              <a:ext cx="1288800" cy="4636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941865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ahoma"/>
                </a:rPr>
                <a:t>Radio Galax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rcRect l="4005" t="18632" r="10572" b="4901"/>
          <a:stretch/>
        </p:blipFill>
        <p:spPr>
          <a:xfrm>
            <a:off x="1158840" y="3321000"/>
            <a:ext cx="39625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4203360" y="2635200"/>
            <a:ext cx="2745000" cy="2133720"/>
            <a:chOff x="4203360" y="2635200"/>
            <a:chExt cx="2745000" cy="2133720"/>
          </a:xfrm>
        </p:grpSpPr>
        <p:sp>
          <p:nvSpPr>
            <p:cNvPr id="294" name=""/>
            <p:cNvSpPr/>
            <p:nvPr/>
          </p:nvSpPr>
          <p:spPr>
            <a:xfrm>
              <a:off x="5119560" y="2635200"/>
              <a:ext cx="1828800" cy="2133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203360" y="2635200"/>
              <a:ext cx="917640" cy="14479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27200" y="3016080"/>
            <a:ext cx="4345200" cy="1143000"/>
            <a:chOff x="2527200" y="3016080"/>
            <a:chExt cx="4345200" cy="1143000"/>
          </a:xfrm>
        </p:grpSpPr>
        <p:sp>
          <p:nvSpPr>
            <p:cNvPr id="297" name=""/>
            <p:cNvSpPr/>
            <p:nvPr/>
          </p:nvSpPr>
          <p:spPr>
            <a:xfrm flipH="1">
              <a:off x="2527200" y="3016080"/>
              <a:ext cx="155520" cy="11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81280" y="3016080"/>
              <a:ext cx="419112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55640" y="6670800"/>
            <a:ext cx="3200400" cy="380880"/>
          </a:xfrm>
          <a:prstGeom prst="rightArrow">
            <a:avLst>
              <a:gd name="adj1" fmla="val 50000"/>
              <a:gd name="adj2" fmla="val 210066"/>
            </a:avLst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55640" y="628812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5440" y="46162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64760" y="6745320"/>
            <a:ext cx="1165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andr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X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25560" y="93600"/>
            <a:ext cx="8229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adio-Galaxy Nuclei – Two Competing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76320" y="2344680"/>
            <a:ext cx="812808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ray emission of FRI radio-galaxy nuclei is unabsorbed and dominated by a parsec-scale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ray emission of FRII radio-galaxy nuclei is heavily absorbed and accretion-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FRII also has an unabsorbed component of X-ray emission -&gt; jet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do not exclude the presence of a heavily obscured, accretion-related emission in FRI-typ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560" y="165240"/>
            <a:ext cx="8229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X-ray emission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me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753000" y="520560"/>
            <a:ext cx="25732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7720" y="2021040"/>
            <a:ext cx="912492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azar emision is mostly dominated by relativistic jet e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the other AGN-types show a mixture of accretion-disk/toru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t-corona &amp; jet e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Blue Bump (UV/Optical) comes (most likely) from thermal e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accreti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R bump is probably re-radiated emission from the dust 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ray emission is a mixture of upscattered photons (inverse Compto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accretion disk through hot-corona electrons (also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ission and fluorescence). Some emmision is likely to comes from a jet     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 will be discussed in a forthcoming lectures (on jet/radio popul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4160" y="39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ypes of Continuum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14600"/>
            <a:ext cx="77724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lazar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-thermal emission from radio to                         gamma-rays (2 compon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yferts, QSOs, BLRG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 and UV bumps (therma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, X-rays  (non-therm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al Energy Distributions (SEDs): plots of power per decade versus frequency (log-log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93560" y="3200400"/>
            <a:ext cx="4415040" cy="3429000"/>
          </a:xfrm>
          <a:prstGeom prst="roundRect">
            <a:avLst>
              <a:gd name="adj" fmla="val 5324"/>
            </a:avLst>
          </a:prstGeom>
          <a:noFill/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48120" y="506520"/>
            <a:ext cx="75844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tinuum Emission in A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2240" y="3317760"/>
            <a:ext cx="32860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V-Optical Continu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5000" y="3927600"/>
            <a:ext cx="2979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frared Continu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00" y="4537080"/>
            <a:ext cx="3583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Energy Continu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5000" y="5222880"/>
            <a:ext cx="4406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o Continuum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ets and superluminal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future lectu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37200" y="2133720"/>
            <a:ext cx="4689360" cy="5181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8040" y="1949400"/>
            <a:ext cx="4233600" cy="5486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76960" y="1949400"/>
            <a:ext cx="4224240" cy="5486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1479600" y="2286000"/>
            <a:ext cx="2941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Radio Quiet Quas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6800" y="2286000"/>
            <a:ext cx="2927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Radio-Loud Quas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9560" y="41860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284560" y="3427200"/>
            <a:ext cx="460080" cy="688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427560" y="3427200"/>
            <a:ext cx="147600" cy="617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7520" y="3021120"/>
            <a:ext cx="104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4480" y="3008160"/>
            <a:ext cx="1689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lue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8920" y="204840"/>
            <a:ext cx="70214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pectral Energy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f Seyferts, QSOs, BL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055600" y="4113360"/>
            <a:ext cx="68868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400" y="3728880"/>
            <a:ext cx="1677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mm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6480" y="407988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6840" y="4222800"/>
            <a:ext cx="457200" cy="4460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1200" y="5140440"/>
            <a:ext cx="199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X-ray Ex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98840" y="4621320"/>
            <a:ext cx="2318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627600" y="4798800"/>
            <a:ext cx="231480" cy="23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54640"/>
            <a:ext cx="774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8480" y="4295880"/>
            <a:ext cx="169920" cy="228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98720" y="4546440"/>
            <a:ext cx="277920" cy="254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65240" y="4692600"/>
            <a:ext cx="1427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6400" y="2514600"/>
            <a:ext cx="427032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40320" y="2495520"/>
            <a:ext cx="410544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52360" y="1717560"/>
            <a:ext cx="3469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baseline="-25000">
                <a:solidFill>
                  <a:srgbClr val="ff0000"/>
                </a:solidFill>
                <a:latin typeface="Comic Sans MS"/>
              </a:rPr>
              <a:t>Red blazars: 3C2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62840" y="1714680"/>
            <a:ext cx="4561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Blue blazars: PKS 2155-3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2960" y="6488280"/>
            <a:ext cx="183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3120" y="6316560"/>
            <a:ext cx="30168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lnSpc>
                <a:spcPct val="84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Wehrle et al. 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5320" y="6292800"/>
            <a:ext cx="3105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lnSpc>
                <a:spcPct val="84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ertone et al.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8920" y="204840"/>
            <a:ext cx="70214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pectral Energy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f Blaz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19440" y="2081160"/>
            <a:ext cx="6062760" cy="51213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816120" y="457200"/>
            <a:ext cx="84470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GN: Spectral Energy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030560"/>
            <a:ext cx="29829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ny different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 AGN S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54160" y="46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Blue and IR bu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0160" y="2413080"/>
            <a:ext cx="777240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I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ains up to 1/3 of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BBB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ains a significant fraction of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R bump due to dust reradiation, BBB due to        blackbody from an accretion dis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3000 A bump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n 4000-1800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lmer Continuu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lended Balmer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Arial Unicode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est of FeII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on Koopmans</dc:creator>
  <dc:description/>
  <dc:language>en-US</dc:language>
  <cp:lastModifiedBy>Leon Koopmans</cp:lastModifiedBy>
  <cp:revision>0</cp:revision>
  <dc:subject/>
  <dc:title/>
</cp:coreProperties>
</file>